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D74-9A83-4B1F-9719-09ECDFA9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81B-E555-4A96-8E07-5B76C1D1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D0C-192F-4CAA-A9AA-19179355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BBC-859E-4263-9B47-0F0DB734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7F9-CCA6-425F-950F-3F45DCC2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296-D76C-40F7-A017-3364C704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3E4-FD57-44D1-B359-8E43A9EA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755-A565-4BD4-9927-DF9E645D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338-6C0E-41BC-94D7-7EFFD714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93E-02E2-4BC2-9F3F-C7AA1F57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3A5-AC60-41C3-8093-3BE0F131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4AB-FD13-4621-A14A-B60CCE5D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2107-E898-4E7C-AEB1-47786465E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 2 Warm-up October 13, 20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the following fractions to decimals and then order them greatest to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371600" y="3214800"/>
                <a:ext cx="65530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455840" y="3081240"/>
            <a:ext cx="241200" cy="2239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4539" y="8582"/>
                </a:moveTo>
                <a:cubicBezTo>
                  <a:pt x="4530" y="8619"/>
                  <a:pt x="4511" y="8644"/>
                  <a:pt x="4490" y="8682"/>
                </a:cubicBezTo>
                <a:cubicBezTo>
                  <a:pt x="4465" y="8607"/>
                  <a:pt x="4518" y="8500"/>
                  <a:pt x="4638" y="8558"/>
                </a:cubicBezTo>
                <a:cubicBezTo>
                  <a:pt x="4910" y="8688"/>
                  <a:pt x="4506" y="8990"/>
                  <a:pt x="4390" y="9029"/>
                </a:cubicBezTo>
                <a:cubicBezTo>
                  <a:pt x="4218" y="9087"/>
                  <a:pt x="4130" y="9077"/>
                  <a:pt x="4043" y="8979"/>
                </a:cubicBezTo>
                <a:cubicBezTo>
                  <a:pt x="4200" y="8896"/>
                  <a:pt x="4340" y="8852"/>
                  <a:pt x="4465" y="9029"/>
                </a:cubicBezTo>
                <a:cubicBezTo>
                  <a:pt x="4516" y="9101"/>
                  <a:pt x="4514" y="9113"/>
                  <a:pt x="4514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1880" y="3062160"/>
            <a:ext cx="268200" cy="179640"/>
          </a:xfrm>
          <a:custGeom>
            <a:avLst/>
            <a:gdLst/>
            <a:ahLst/>
            <a:rect l="l" t="t" r="r" b="b"/>
            <a:pathLst>
              <a:path w="746" h="497">
                <a:moveTo>
                  <a:pt x="5606" y="8607"/>
                </a:moveTo>
                <a:cubicBezTo>
                  <a:pt x="5634" y="8598"/>
                  <a:pt x="5653" y="8556"/>
                  <a:pt x="5606" y="8533"/>
                </a:cubicBezTo>
                <a:cubicBezTo>
                  <a:pt x="5540" y="8500"/>
                  <a:pt x="5511" y="8512"/>
                  <a:pt x="5432" y="8533"/>
                </a:cubicBezTo>
                <a:cubicBezTo>
                  <a:pt x="5355" y="8552"/>
                  <a:pt x="5338" y="8545"/>
                  <a:pt x="5308" y="8582"/>
                </a:cubicBezTo>
                <a:cubicBezTo>
                  <a:pt x="5332" y="8750"/>
                  <a:pt x="5441" y="8769"/>
                  <a:pt x="5507" y="8905"/>
                </a:cubicBezTo>
                <a:cubicBezTo>
                  <a:pt x="5507" y="8930"/>
                  <a:pt x="5507" y="8954"/>
                  <a:pt x="5507" y="8979"/>
                </a:cubicBezTo>
                <a:cubicBezTo>
                  <a:pt x="5412" y="9020"/>
                  <a:pt x="5348" y="9009"/>
                  <a:pt x="5283" y="8930"/>
                </a:cubicBezTo>
                <a:cubicBezTo>
                  <a:pt x="5368" y="8829"/>
                  <a:pt x="5514" y="8746"/>
                  <a:pt x="5581" y="8632"/>
                </a:cubicBezTo>
                <a:cubicBezTo>
                  <a:pt x="5581" y="8624"/>
                  <a:pt x="5581" y="8615"/>
                  <a:pt x="5581" y="8607"/>
                </a:cubicBezTo>
              </a:path>
              <a:path w="746" h="497">
                <a:moveTo>
                  <a:pt x="5978" y="8607"/>
                </a:moveTo>
                <a:cubicBezTo>
                  <a:pt x="5945" y="8509"/>
                  <a:pt x="5800" y="8722"/>
                  <a:pt x="5779" y="8756"/>
                </a:cubicBezTo>
                <a:cubicBezTo>
                  <a:pt x="5755" y="8830"/>
                  <a:pt x="5747" y="8855"/>
                  <a:pt x="5779" y="8905"/>
                </a:cubicBezTo>
                <a:cubicBezTo>
                  <a:pt x="5925" y="8960"/>
                  <a:pt x="5996" y="8914"/>
                  <a:pt x="6028" y="8756"/>
                </a:cubicBezTo>
                <a:cubicBezTo>
                  <a:pt x="6038" y="8705"/>
                  <a:pt x="6032" y="8560"/>
                  <a:pt x="5978" y="8533"/>
                </a:cubicBezTo>
                <a:cubicBezTo>
                  <a:pt x="5927" y="8533"/>
                  <a:pt x="5913" y="8558"/>
                  <a:pt x="5928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9840" y="4616280"/>
            <a:ext cx="1928520" cy="1357560"/>
          </a:xfrm>
          <a:custGeom>
            <a:avLst/>
            <a:gdLst/>
            <a:ahLst/>
            <a:rect l="l" t="t" r="r" b="b"/>
            <a:pathLst>
              <a:path w="5359" h="3771">
                <a:moveTo>
                  <a:pt x="6573" y="12948"/>
                </a:moveTo>
                <a:cubicBezTo>
                  <a:pt x="6573" y="13009"/>
                  <a:pt x="6559" y="13010"/>
                  <a:pt x="6499" y="13022"/>
                </a:cubicBezTo>
                <a:cubicBezTo>
                  <a:pt x="6602" y="12843"/>
                  <a:pt x="6858" y="12802"/>
                  <a:pt x="6846" y="13122"/>
                </a:cubicBezTo>
                <a:cubicBezTo>
                  <a:pt x="6832" y="13486"/>
                  <a:pt x="6548" y="13630"/>
                  <a:pt x="6251" y="13643"/>
                </a:cubicBezTo>
                <a:cubicBezTo>
                  <a:pt x="6276" y="13454"/>
                  <a:pt x="6369" y="13401"/>
                  <a:pt x="6573" y="13519"/>
                </a:cubicBezTo>
                <a:cubicBezTo>
                  <a:pt x="6646" y="13561"/>
                  <a:pt x="6685" y="13655"/>
                  <a:pt x="6747" y="13692"/>
                </a:cubicBezTo>
              </a:path>
              <a:path w="5359" h="3771">
                <a:moveTo>
                  <a:pt x="7913" y="13022"/>
                </a:moveTo>
                <a:cubicBezTo>
                  <a:pt x="7807" y="12940"/>
                  <a:pt x="7741" y="12943"/>
                  <a:pt x="7615" y="12998"/>
                </a:cubicBezTo>
                <a:cubicBezTo>
                  <a:pt x="7590" y="13014"/>
                  <a:pt x="7566" y="13031"/>
                  <a:pt x="7541" y="13047"/>
                </a:cubicBezTo>
                <a:cubicBezTo>
                  <a:pt x="7568" y="13171"/>
                  <a:pt x="7819" y="13439"/>
                  <a:pt x="7764" y="13543"/>
                </a:cubicBezTo>
                <a:cubicBezTo>
                  <a:pt x="7731" y="13560"/>
                  <a:pt x="7698" y="13576"/>
                  <a:pt x="7665" y="13593"/>
                </a:cubicBezTo>
                <a:cubicBezTo>
                  <a:pt x="7527" y="13387"/>
                  <a:pt x="7722" y="13260"/>
                  <a:pt x="7838" y="13047"/>
                </a:cubicBezTo>
                <a:cubicBezTo>
                  <a:pt x="7838" y="13039"/>
                  <a:pt x="7838" y="13030"/>
                  <a:pt x="7838" y="13022"/>
                </a:cubicBezTo>
              </a:path>
              <a:path w="5359" h="3771">
                <a:moveTo>
                  <a:pt x="8235" y="12973"/>
                </a:moveTo>
                <a:cubicBezTo>
                  <a:pt x="8111" y="13055"/>
                  <a:pt x="7971" y="13331"/>
                  <a:pt x="7987" y="13494"/>
                </a:cubicBezTo>
                <a:cubicBezTo>
                  <a:pt x="8012" y="13527"/>
                  <a:pt x="8037" y="13560"/>
                  <a:pt x="8062" y="13593"/>
                </a:cubicBezTo>
                <a:cubicBezTo>
                  <a:pt x="8317" y="13529"/>
                  <a:pt x="8560" y="13332"/>
                  <a:pt x="8359" y="13022"/>
                </a:cubicBezTo>
                <a:cubicBezTo>
                  <a:pt x="8318" y="12997"/>
                  <a:pt x="8276" y="12973"/>
                  <a:pt x="8235" y="12948"/>
                </a:cubicBezTo>
              </a:path>
              <a:path w="5359" h="3771">
                <a:moveTo>
                  <a:pt x="6722" y="13965"/>
                </a:moveTo>
                <a:cubicBezTo>
                  <a:pt x="6703" y="13928"/>
                  <a:pt x="6540" y="14113"/>
                  <a:pt x="6524" y="14139"/>
                </a:cubicBezTo>
                <a:cubicBezTo>
                  <a:pt x="6403" y="14332"/>
                  <a:pt x="6336" y="14520"/>
                  <a:pt x="6300" y="14734"/>
                </a:cubicBezTo>
                <a:cubicBezTo>
                  <a:pt x="6553" y="14599"/>
                  <a:pt x="6656" y="14433"/>
                  <a:pt x="6672" y="14139"/>
                </a:cubicBezTo>
                <a:cubicBezTo>
                  <a:pt x="6678" y="14033"/>
                  <a:pt x="6634" y="14038"/>
                  <a:pt x="6573" y="13990"/>
                </a:cubicBezTo>
              </a:path>
              <a:path w="5359" h="3771">
                <a:moveTo>
                  <a:pt x="7342" y="14039"/>
                </a:moveTo>
                <a:cubicBezTo>
                  <a:pt x="7342" y="13955"/>
                  <a:pt x="7338" y="14002"/>
                  <a:pt x="7441" y="13915"/>
                </a:cubicBezTo>
                <a:cubicBezTo>
                  <a:pt x="7591" y="14037"/>
                  <a:pt x="7693" y="14287"/>
                  <a:pt x="7417" y="14412"/>
                </a:cubicBezTo>
                <a:cubicBezTo>
                  <a:pt x="7299" y="14412"/>
                  <a:pt x="7262" y="14416"/>
                  <a:pt x="7218" y="14337"/>
                </a:cubicBezTo>
                <a:cubicBezTo>
                  <a:pt x="7300" y="14174"/>
                  <a:pt x="7415" y="14124"/>
                  <a:pt x="7541" y="14312"/>
                </a:cubicBezTo>
                <a:cubicBezTo>
                  <a:pt x="7562" y="14378"/>
                  <a:pt x="7570" y="14393"/>
                  <a:pt x="7565" y="14436"/>
                </a:cubicBezTo>
              </a:path>
              <a:path w="5359" h="3771">
                <a:moveTo>
                  <a:pt x="7913" y="13965"/>
                </a:moveTo>
                <a:cubicBezTo>
                  <a:pt x="7908" y="14050"/>
                  <a:pt x="7896" y="14129"/>
                  <a:pt x="7888" y="14213"/>
                </a:cubicBezTo>
                <a:cubicBezTo>
                  <a:pt x="8019" y="14286"/>
                  <a:pt x="8104" y="14231"/>
                  <a:pt x="8210" y="14114"/>
                </a:cubicBezTo>
              </a:path>
              <a:path w="5359" h="3771">
                <a:moveTo>
                  <a:pt x="8186" y="13866"/>
                </a:moveTo>
                <a:cubicBezTo>
                  <a:pt x="8119" y="14073"/>
                  <a:pt x="8109" y="14270"/>
                  <a:pt x="8086" y="14486"/>
                </a:cubicBezTo>
                <a:cubicBezTo>
                  <a:pt x="8076" y="14583"/>
                  <a:pt x="8182" y="14370"/>
                  <a:pt x="8235" y="14288"/>
                </a:cubicBezTo>
              </a:path>
              <a:path w="5359" h="3771">
                <a:moveTo>
                  <a:pt x="8855" y="13866"/>
                </a:moveTo>
                <a:cubicBezTo>
                  <a:pt x="8794" y="13870"/>
                  <a:pt x="8601" y="13856"/>
                  <a:pt x="8558" y="13891"/>
                </a:cubicBezTo>
                <a:cubicBezTo>
                  <a:pt x="8506" y="13933"/>
                  <a:pt x="8546" y="14023"/>
                  <a:pt x="8533" y="14089"/>
                </a:cubicBezTo>
                <a:cubicBezTo>
                  <a:pt x="8533" y="14097"/>
                  <a:pt x="8533" y="14106"/>
                  <a:pt x="8533" y="14114"/>
                </a:cubicBezTo>
                <a:cubicBezTo>
                  <a:pt x="8633" y="14094"/>
                  <a:pt x="8738" y="14051"/>
                  <a:pt x="8830" y="14139"/>
                </a:cubicBezTo>
                <a:cubicBezTo>
                  <a:pt x="9046" y="14345"/>
                  <a:pt x="8605" y="14381"/>
                  <a:pt x="8533" y="14387"/>
                </a:cubicBezTo>
              </a:path>
              <a:path w="5359" h="3771">
                <a:moveTo>
                  <a:pt x="6325" y="14957"/>
                </a:moveTo>
                <a:cubicBezTo>
                  <a:pt x="6325" y="15072"/>
                  <a:pt x="6299" y="15176"/>
                  <a:pt x="6251" y="15280"/>
                </a:cubicBezTo>
                <a:cubicBezTo>
                  <a:pt x="6243" y="15288"/>
                  <a:pt x="6234" y="15296"/>
                  <a:pt x="6226" y="15304"/>
                </a:cubicBezTo>
                <a:cubicBezTo>
                  <a:pt x="6364" y="15304"/>
                  <a:pt x="6489" y="15293"/>
                  <a:pt x="6623" y="15304"/>
                </a:cubicBezTo>
                <a:cubicBezTo>
                  <a:pt x="6664" y="15304"/>
                  <a:pt x="6673" y="15288"/>
                  <a:pt x="6648" y="15230"/>
                </a:cubicBezTo>
              </a:path>
              <a:path w="5359" h="3771">
                <a:moveTo>
                  <a:pt x="6648" y="14957"/>
                </a:moveTo>
                <a:cubicBezTo>
                  <a:pt x="6648" y="15104"/>
                  <a:pt x="6619" y="15259"/>
                  <a:pt x="6598" y="15404"/>
                </a:cubicBezTo>
                <a:cubicBezTo>
                  <a:pt x="6585" y="15496"/>
                  <a:pt x="6561" y="15586"/>
                  <a:pt x="6548" y="15677"/>
                </a:cubicBezTo>
              </a:path>
              <a:path w="5359" h="3771">
                <a:moveTo>
                  <a:pt x="7466" y="14908"/>
                </a:moveTo>
                <a:cubicBezTo>
                  <a:pt x="7338" y="14926"/>
                  <a:pt x="7293" y="14953"/>
                  <a:pt x="7193" y="15032"/>
                </a:cubicBezTo>
                <a:cubicBezTo>
                  <a:pt x="7220" y="15138"/>
                  <a:pt x="7396" y="15332"/>
                  <a:pt x="7293" y="15453"/>
                </a:cubicBezTo>
                <a:cubicBezTo>
                  <a:pt x="7268" y="15461"/>
                  <a:pt x="7243" y="15470"/>
                  <a:pt x="7218" y="15478"/>
                </a:cubicBezTo>
                <a:cubicBezTo>
                  <a:pt x="7218" y="15262"/>
                  <a:pt x="7266" y="15172"/>
                  <a:pt x="7417" y="15007"/>
                </a:cubicBezTo>
              </a:path>
              <a:path w="5359" h="3771">
                <a:moveTo>
                  <a:pt x="7739" y="14932"/>
                </a:moveTo>
                <a:cubicBezTo>
                  <a:pt x="7663" y="15117"/>
                  <a:pt x="7603" y="15252"/>
                  <a:pt x="7590" y="15453"/>
                </a:cubicBezTo>
                <a:cubicBezTo>
                  <a:pt x="7699" y="15411"/>
                  <a:pt x="7923" y="15226"/>
                  <a:pt x="7838" y="15056"/>
                </a:cubicBezTo>
                <a:cubicBezTo>
                  <a:pt x="7751" y="14991"/>
                  <a:pt x="7733" y="14971"/>
                  <a:pt x="7665" y="14957"/>
                </a:cubicBezTo>
              </a:path>
              <a:path w="5359" h="3771">
                <a:moveTo>
                  <a:pt x="5581" y="15999"/>
                </a:moveTo>
                <a:cubicBezTo>
                  <a:pt x="5548" y="16032"/>
                  <a:pt x="5549" y="16059"/>
                  <a:pt x="5531" y="16024"/>
                </a:cubicBezTo>
                <a:cubicBezTo>
                  <a:pt x="5616" y="15939"/>
                  <a:pt x="5716" y="15914"/>
                  <a:pt x="5730" y="16098"/>
                </a:cubicBezTo>
                <a:cubicBezTo>
                  <a:pt x="5758" y="16453"/>
                  <a:pt x="5424" y="16547"/>
                  <a:pt x="5159" y="16594"/>
                </a:cubicBezTo>
                <a:cubicBezTo>
                  <a:pt x="5194" y="16399"/>
                  <a:pt x="5284" y="16260"/>
                  <a:pt x="5507" y="16396"/>
                </a:cubicBezTo>
                <a:cubicBezTo>
                  <a:pt x="5578" y="16439"/>
                  <a:pt x="5620" y="16540"/>
                  <a:pt x="5680" y="16570"/>
                </a:cubicBezTo>
              </a:path>
              <a:path w="5359" h="3771">
                <a:moveTo>
                  <a:pt x="6176" y="15974"/>
                </a:moveTo>
                <a:cubicBezTo>
                  <a:pt x="6220" y="16061"/>
                  <a:pt x="6192" y="16183"/>
                  <a:pt x="6152" y="16297"/>
                </a:cubicBezTo>
                <a:cubicBezTo>
                  <a:pt x="6291" y="16328"/>
                  <a:pt x="6386" y="16311"/>
                  <a:pt x="6524" y="16272"/>
                </a:cubicBezTo>
              </a:path>
              <a:path w="5359" h="3771">
                <a:moveTo>
                  <a:pt x="6449" y="15949"/>
                </a:moveTo>
                <a:cubicBezTo>
                  <a:pt x="6449" y="16164"/>
                  <a:pt x="6435" y="16358"/>
                  <a:pt x="6400" y="16570"/>
                </a:cubicBezTo>
                <a:cubicBezTo>
                  <a:pt x="6400" y="16578"/>
                  <a:pt x="6400" y="16586"/>
                  <a:pt x="6400" y="16594"/>
                </a:cubicBezTo>
              </a:path>
              <a:path w="5359" h="3771">
                <a:moveTo>
                  <a:pt x="6722" y="16520"/>
                </a:moveTo>
                <a:cubicBezTo>
                  <a:pt x="6757" y="16527"/>
                  <a:pt x="6923" y="16411"/>
                  <a:pt x="6846" y="16396"/>
                </a:cubicBezTo>
                <a:cubicBezTo>
                  <a:pt x="6772" y="16396"/>
                  <a:pt x="6763" y="16396"/>
                  <a:pt x="6722" y="16396"/>
                </a:cubicBezTo>
              </a:path>
              <a:path w="5359" h="3771">
                <a:moveTo>
                  <a:pt x="7342" y="15974"/>
                </a:moveTo>
                <a:cubicBezTo>
                  <a:pt x="7302" y="15987"/>
                  <a:pt x="7229" y="16004"/>
                  <a:pt x="7193" y="16024"/>
                </a:cubicBezTo>
                <a:cubicBezTo>
                  <a:pt x="7153" y="16047"/>
                  <a:pt x="7153" y="16157"/>
                  <a:pt x="7144" y="16197"/>
                </a:cubicBezTo>
                <a:cubicBezTo>
                  <a:pt x="7144" y="16205"/>
                  <a:pt x="7144" y="16214"/>
                  <a:pt x="7144" y="16222"/>
                </a:cubicBezTo>
                <a:cubicBezTo>
                  <a:pt x="7236" y="16199"/>
                  <a:pt x="7219" y="16167"/>
                  <a:pt x="7342" y="16197"/>
                </a:cubicBezTo>
                <a:cubicBezTo>
                  <a:pt x="7483" y="16231"/>
                  <a:pt x="7513" y="16384"/>
                  <a:pt x="7367" y="16446"/>
                </a:cubicBezTo>
                <a:cubicBezTo>
                  <a:pt x="7199" y="16518"/>
                  <a:pt x="6980" y="16545"/>
                  <a:pt x="7193" y="16346"/>
                </a:cubicBezTo>
              </a:path>
              <a:path w="5359" h="3771">
                <a:moveTo>
                  <a:pt x="4242" y="16495"/>
                </a:moveTo>
                <a:cubicBezTo>
                  <a:pt x="4314" y="16495"/>
                  <a:pt x="4563" y="16495"/>
                  <a:pt x="4539" y="16495"/>
                </a:cubicBezTo>
                <a:cubicBezTo>
                  <a:pt x="4531" y="16495"/>
                  <a:pt x="4522" y="16495"/>
                  <a:pt x="4514" y="16495"/>
                </a:cubicBezTo>
                <a:cubicBezTo>
                  <a:pt x="4357" y="16495"/>
                  <a:pt x="4314" y="16492"/>
                  <a:pt x="4217" y="16520"/>
                </a:cubicBezTo>
                <a:cubicBezTo>
                  <a:pt x="4144" y="16520"/>
                  <a:pt x="4414" y="16495"/>
                  <a:pt x="4415" y="16495"/>
                </a:cubicBezTo>
                <a:cubicBezTo>
                  <a:pt x="4497" y="16516"/>
                  <a:pt x="4513" y="16524"/>
                  <a:pt x="4564" y="16520"/>
                </a:cubicBezTo>
              </a:path>
              <a:path w="5359" h="3771">
                <a:moveTo>
                  <a:pt x="5829" y="12849"/>
                </a:moveTo>
                <a:cubicBezTo>
                  <a:pt x="5817" y="12852"/>
                  <a:pt x="5816" y="12811"/>
                  <a:pt x="5779" y="12874"/>
                </a:cubicBezTo>
                <a:cubicBezTo>
                  <a:pt x="5769" y="12890"/>
                  <a:pt x="5736" y="12927"/>
                  <a:pt x="5730" y="12973"/>
                </a:cubicBezTo>
                <a:cubicBezTo>
                  <a:pt x="5724" y="13023"/>
                  <a:pt x="5710" y="13084"/>
                  <a:pt x="5705" y="13122"/>
                </a:cubicBezTo>
                <a:cubicBezTo>
                  <a:pt x="5693" y="13218"/>
                  <a:pt x="5698" y="13303"/>
                  <a:pt x="5680" y="13395"/>
                </a:cubicBezTo>
                <a:cubicBezTo>
                  <a:pt x="5667" y="13460"/>
                  <a:pt x="5667" y="13528"/>
                  <a:pt x="5655" y="13593"/>
                </a:cubicBezTo>
                <a:cubicBezTo>
                  <a:pt x="5645" y="13650"/>
                  <a:pt x="5621" y="13711"/>
                  <a:pt x="5606" y="13767"/>
                </a:cubicBezTo>
                <a:cubicBezTo>
                  <a:pt x="5581" y="13859"/>
                  <a:pt x="5580" y="13949"/>
                  <a:pt x="5556" y="14039"/>
                </a:cubicBezTo>
                <a:cubicBezTo>
                  <a:pt x="5534" y="14120"/>
                  <a:pt x="5507" y="14184"/>
                  <a:pt x="5482" y="14263"/>
                </a:cubicBezTo>
                <a:cubicBezTo>
                  <a:pt x="5455" y="14346"/>
                  <a:pt x="5454" y="14431"/>
                  <a:pt x="5432" y="14511"/>
                </a:cubicBezTo>
                <a:cubicBezTo>
                  <a:pt x="5406" y="14605"/>
                  <a:pt x="5383" y="14690"/>
                  <a:pt x="5358" y="14784"/>
                </a:cubicBezTo>
                <a:cubicBezTo>
                  <a:pt x="5335" y="14872"/>
                  <a:pt x="5329" y="14963"/>
                  <a:pt x="5308" y="15056"/>
                </a:cubicBezTo>
                <a:cubicBezTo>
                  <a:pt x="5293" y="15122"/>
                  <a:pt x="5275" y="15191"/>
                  <a:pt x="5259" y="15255"/>
                </a:cubicBezTo>
                <a:cubicBezTo>
                  <a:pt x="5246" y="15308"/>
                  <a:pt x="5244" y="15368"/>
                  <a:pt x="5234" y="15429"/>
                </a:cubicBezTo>
                <a:cubicBezTo>
                  <a:pt x="5214" y="15554"/>
                  <a:pt x="5224" y="15567"/>
                  <a:pt x="5234" y="15677"/>
                </a:cubicBezTo>
                <a:cubicBezTo>
                  <a:pt x="5239" y="15727"/>
                  <a:pt x="5227" y="15788"/>
                  <a:pt x="5259" y="15825"/>
                </a:cubicBezTo>
                <a:cubicBezTo>
                  <a:pt x="5260" y="15826"/>
                  <a:pt x="5351" y="15898"/>
                  <a:pt x="5358" y="15900"/>
                </a:cubicBezTo>
                <a:cubicBezTo>
                  <a:pt x="5401" y="15913"/>
                  <a:pt x="5426" y="15893"/>
                  <a:pt x="5457" y="15875"/>
                </a:cubicBezTo>
                <a:cubicBezTo>
                  <a:pt x="5523" y="15836"/>
                  <a:pt x="5568" y="15792"/>
                  <a:pt x="5606" y="15726"/>
                </a:cubicBezTo>
                <a:cubicBezTo>
                  <a:pt x="5643" y="15661"/>
                  <a:pt x="5692" y="15577"/>
                  <a:pt x="5705" y="15503"/>
                </a:cubicBezTo>
                <a:cubicBezTo>
                  <a:pt x="5721" y="15413"/>
                  <a:pt x="5722" y="15293"/>
                  <a:pt x="5730" y="15205"/>
                </a:cubicBezTo>
                <a:cubicBezTo>
                  <a:pt x="5740" y="15088"/>
                  <a:pt x="5745" y="14998"/>
                  <a:pt x="5779" y="14883"/>
                </a:cubicBezTo>
                <a:cubicBezTo>
                  <a:pt x="5817" y="14757"/>
                  <a:pt x="5862" y="14617"/>
                  <a:pt x="5879" y="14486"/>
                </a:cubicBezTo>
                <a:cubicBezTo>
                  <a:pt x="5891" y="14396"/>
                  <a:pt x="5852" y="14296"/>
                  <a:pt x="5829" y="14213"/>
                </a:cubicBezTo>
                <a:cubicBezTo>
                  <a:pt x="5812" y="14152"/>
                  <a:pt x="5815" y="14105"/>
                  <a:pt x="5804" y="14039"/>
                </a:cubicBezTo>
                <a:cubicBezTo>
                  <a:pt x="5787" y="13941"/>
                  <a:pt x="5793" y="13942"/>
                  <a:pt x="5804" y="13841"/>
                </a:cubicBezTo>
                <a:cubicBezTo>
                  <a:pt x="5814" y="13751"/>
                  <a:pt x="5815" y="13658"/>
                  <a:pt x="5829" y="13568"/>
                </a:cubicBezTo>
                <a:cubicBezTo>
                  <a:pt x="5841" y="13490"/>
                  <a:pt x="5871" y="13401"/>
                  <a:pt x="5879" y="13320"/>
                </a:cubicBezTo>
                <a:cubicBezTo>
                  <a:pt x="5885" y="13260"/>
                  <a:pt x="5889" y="13205"/>
                  <a:pt x="5904" y="13146"/>
                </a:cubicBezTo>
                <a:cubicBezTo>
                  <a:pt x="5914" y="13106"/>
                  <a:pt x="5916" y="13084"/>
                  <a:pt x="5928" y="13047"/>
                </a:cubicBezTo>
              </a:path>
              <a:path w="5359" h="3771">
                <a:moveTo>
                  <a:pt x="4465" y="16495"/>
                </a:moveTo>
                <a:cubicBezTo>
                  <a:pt x="4576" y="16465"/>
                  <a:pt x="4696" y="16444"/>
                  <a:pt x="4812" y="16421"/>
                </a:cubicBezTo>
                <a:cubicBezTo>
                  <a:pt x="4908" y="16402"/>
                  <a:pt x="5038" y="16344"/>
                  <a:pt x="5135" y="16346"/>
                </a:cubicBezTo>
                <a:cubicBezTo>
                  <a:pt x="5204" y="16348"/>
                  <a:pt x="5263" y="16368"/>
                  <a:pt x="5333" y="16371"/>
                </a:cubicBezTo>
                <a:cubicBezTo>
                  <a:pt x="5517" y="16378"/>
                  <a:pt x="5699" y="16380"/>
                  <a:pt x="5879" y="16396"/>
                </a:cubicBezTo>
                <a:cubicBezTo>
                  <a:pt x="6123" y="16418"/>
                  <a:pt x="6379" y="16407"/>
                  <a:pt x="6623" y="16421"/>
                </a:cubicBezTo>
                <a:cubicBezTo>
                  <a:pt x="6766" y="16429"/>
                  <a:pt x="6901" y="16446"/>
                  <a:pt x="7045" y="16446"/>
                </a:cubicBezTo>
                <a:cubicBezTo>
                  <a:pt x="7337" y="16446"/>
                  <a:pt x="7623" y="16435"/>
                  <a:pt x="7913" y="16421"/>
                </a:cubicBezTo>
                <a:cubicBezTo>
                  <a:pt x="8131" y="16410"/>
                  <a:pt x="8342" y="16442"/>
                  <a:pt x="8558" y="16446"/>
                </a:cubicBezTo>
                <a:cubicBezTo>
                  <a:pt x="8674" y="16448"/>
                  <a:pt x="8739" y="16446"/>
                  <a:pt x="8855" y="16446"/>
                </a:cubicBezTo>
              </a:path>
              <a:path w="5359" h="3771">
                <a:moveTo>
                  <a:pt x="5978" y="13370"/>
                </a:moveTo>
                <a:cubicBezTo>
                  <a:pt x="6191" y="13280"/>
                  <a:pt x="6317" y="13266"/>
                  <a:pt x="6573" y="13271"/>
                </a:cubicBezTo>
                <a:cubicBezTo>
                  <a:pt x="7324" y="13286"/>
                  <a:pt x="8055" y="13286"/>
                  <a:pt x="8806" y="13221"/>
                </a:cubicBezTo>
                <a:cubicBezTo>
                  <a:pt x="8934" y="13210"/>
                  <a:pt x="9406" y="13150"/>
                  <a:pt x="9550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41320" y="1741320"/>
            <a:ext cx="3652920" cy="4402440"/>
          </a:xfrm>
          <a:custGeom>
            <a:avLst/>
            <a:gdLst/>
            <a:ahLst/>
            <a:rect l="l" t="t" r="r" b="b"/>
            <a:pathLst>
              <a:path w="10146" h="12230">
                <a:moveTo>
                  <a:pt x="4837" y="9079"/>
                </a:moveTo>
                <a:cubicBezTo>
                  <a:pt x="4865" y="9079"/>
                  <a:pt x="4876" y="9077"/>
                  <a:pt x="4887" y="9054"/>
                </a:cubicBezTo>
              </a:path>
              <a:path w="10146" h="12230">
                <a:moveTo>
                  <a:pt x="9798" y="8806"/>
                </a:moveTo>
                <a:cubicBezTo>
                  <a:pt x="9752" y="8905"/>
                  <a:pt x="9714" y="8995"/>
                  <a:pt x="9699" y="9103"/>
                </a:cubicBezTo>
                <a:cubicBezTo>
                  <a:pt x="9828" y="9118"/>
                  <a:pt x="9862" y="9123"/>
                  <a:pt x="9971" y="9054"/>
                </a:cubicBezTo>
              </a:path>
              <a:path w="10146" h="12230">
                <a:moveTo>
                  <a:pt x="8756" y="9426"/>
                </a:moveTo>
                <a:cubicBezTo>
                  <a:pt x="8797" y="9406"/>
                  <a:pt x="8813" y="9408"/>
                  <a:pt x="8806" y="9376"/>
                </a:cubicBezTo>
              </a:path>
              <a:path w="10146" h="12230">
                <a:moveTo>
                  <a:pt x="14982" y="4837"/>
                </a:moveTo>
                <a:lnTo>
                  <a:pt x="14982" y="4837"/>
                </a:lnTo>
              </a:path>
              <a:path w="10146" h="12230">
                <a:moveTo>
                  <a:pt x="7094" y="13469"/>
                </a:moveTo>
                <a:cubicBezTo>
                  <a:pt x="7094" y="13514"/>
                  <a:pt x="7091" y="13534"/>
                  <a:pt x="7119" y="13494"/>
                </a:cubicBezTo>
              </a:path>
              <a:path w="10146" h="12230">
                <a:moveTo>
                  <a:pt x="6722" y="13990"/>
                </a:moveTo>
                <a:lnTo>
                  <a:pt x="6722" y="13990"/>
                </a:lnTo>
              </a:path>
              <a:path w="10146" h="12230">
                <a:moveTo>
                  <a:pt x="6995" y="14511"/>
                </a:moveTo>
                <a:cubicBezTo>
                  <a:pt x="6987" y="14519"/>
                  <a:pt x="6978" y="14528"/>
                  <a:pt x="6970" y="14536"/>
                </a:cubicBezTo>
              </a:path>
              <a:path w="10146" h="12230">
                <a:moveTo>
                  <a:pt x="6896" y="15503"/>
                </a:moveTo>
                <a:cubicBezTo>
                  <a:pt x="6896" y="15528"/>
                  <a:pt x="6896" y="15536"/>
                  <a:pt x="6921" y="15528"/>
                </a:cubicBezTo>
              </a:path>
              <a:path w="10146" h="12230">
                <a:moveTo>
                  <a:pt x="6921" y="15528"/>
                </a:moveTo>
                <a:lnTo>
                  <a:pt x="6921" y="15528"/>
                </a:lnTo>
              </a:path>
              <a:path w="10146" h="12230">
                <a:moveTo>
                  <a:pt x="10914" y="10691"/>
                </a:moveTo>
                <a:lnTo>
                  <a:pt x="10914" y="10691"/>
                </a:lnTo>
              </a:path>
              <a:path w="10146" h="12230">
                <a:moveTo>
                  <a:pt x="12650" y="17016"/>
                </a:moveTo>
                <a:cubicBezTo>
                  <a:pt x="12650" y="17033"/>
                  <a:pt x="12650" y="17049"/>
                  <a:pt x="12650" y="17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46160" y="4670280"/>
            <a:ext cx="223920" cy="982800"/>
          </a:xfrm>
          <a:custGeom>
            <a:avLst/>
            <a:gdLst/>
            <a:ahLst/>
            <a:rect l="l" t="t" r="r" b="b"/>
            <a:pathLst>
              <a:path w="622" h="2729">
                <a:moveTo>
                  <a:pt x="5581" y="15156"/>
                </a:moveTo>
                <a:cubicBezTo>
                  <a:pt x="5539" y="15093"/>
                  <a:pt x="5549" y="15092"/>
                  <a:pt x="5482" y="15081"/>
                </a:cubicBezTo>
                <a:cubicBezTo>
                  <a:pt x="5361" y="15225"/>
                  <a:pt x="5388" y="15406"/>
                  <a:pt x="5457" y="15577"/>
                </a:cubicBezTo>
                <a:cubicBezTo>
                  <a:pt x="5482" y="15610"/>
                  <a:pt x="5506" y="15644"/>
                  <a:pt x="5531" y="15677"/>
                </a:cubicBezTo>
                <a:cubicBezTo>
                  <a:pt x="5738" y="15644"/>
                  <a:pt x="5791" y="15448"/>
                  <a:pt x="5705" y="15230"/>
                </a:cubicBezTo>
                <a:cubicBezTo>
                  <a:pt x="5640" y="15065"/>
                  <a:pt x="5534" y="15102"/>
                  <a:pt x="5432" y="15180"/>
                </a:cubicBezTo>
              </a:path>
              <a:path w="622" h="2729">
                <a:moveTo>
                  <a:pt x="5556" y="14089"/>
                </a:moveTo>
                <a:cubicBezTo>
                  <a:pt x="5463" y="14158"/>
                  <a:pt x="5498" y="14372"/>
                  <a:pt x="5531" y="14486"/>
                </a:cubicBezTo>
                <a:cubicBezTo>
                  <a:pt x="5576" y="14575"/>
                  <a:pt x="5582" y="14605"/>
                  <a:pt x="5655" y="14610"/>
                </a:cubicBezTo>
                <a:cubicBezTo>
                  <a:pt x="5826" y="14512"/>
                  <a:pt x="5873" y="14331"/>
                  <a:pt x="5804" y="14114"/>
                </a:cubicBezTo>
                <a:cubicBezTo>
                  <a:pt x="5771" y="14010"/>
                  <a:pt x="5633" y="13872"/>
                  <a:pt x="5507" y="13915"/>
                </a:cubicBezTo>
                <a:cubicBezTo>
                  <a:pt x="5507" y="13923"/>
                  <a:pt x="5507" y="13932"/>
                  <a:pt x="5507" y="13940"/>
                </a:cubicBezTo>
              </a:path>
              <a:path w="622" h="2729">
                <a:moveTo>
                  <a:pt x="5730" y="13047"/>
                </a:moveTo>
                <a:cubicBezTo>
                  <a:pt x="5701" y="13062"/>
                  <a:pt x="5585" y="13103"/>
                  <a:pt x="5581" y="13146"/>
                </a:cubicBezTo>
                <a:cubicBezTo>
                  <a:pt x="5557" y="13382"/>
                  <a:pt x="5596" y="13584"/>
                  <a:pt x="5730" y="13767"/>
                </a:cubicBezTo>
                <a:cubicBezTo>
                  <a:pt x="5876" y="13657"/>
                  <a:pt x="6024" y="13502"/>
                  <a:pt x="6028" y="13295"/>
                </a:cubicBezTo>
                <a:cubicBezTo>
                  <a:pt x="6031" y="13125"/>
                  <a:pt x="5938" y="12954"/>
                  <a:pt x="5755" y="12973"/>
                </a:cubicBezTo>
                <a:cubicBezTo>
                  <a:pt x="5697" y="12992"/>
                  <a:pt x="5690" y="13001"/>
                  <a:pt x="5655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33800" y="4653000"/>
            <a:ext cx="117360" cy="214200"/>
          </a:xfrm>
          <a:custGeom>
            <a:avLst/>
            <a:gdLst/>
            <a:ahLst/>
            <a:rect l="l" t="t" r="r" b="b"/>
            <a:pathLst>
              <a:path w="324" h="597">
                <a:moveTo>
                  <a:pt x="8855" y="13072"/>
                </a:moveTo>
                <a:cubicBezTo>
                  <a:pt x="8855" y="13019"/>
                  <a:pt x="8851" y="12996"/>
                  <a:pt x="8806" y="12973"/>
                </a:cubicBezTo>
                <a:cubicBezTo>
                  <a:pt x="8789" y="12965"/>
                  <a:pt x="8773" y="12956"/>
                  <a:pt x="8756" y="12948"/>
                </a:cubicBezTo>
                <a:cubicBezTo>
                  <a:pt x="8688" y="13171"/>
                  <a:pt x="8689" y="13321"/>
                  <a:pt x="8806" y="13519"/>
                </a:cubicBezTo>
                <a:cubicBezTo>
                  <a:pt x="8958" y="13347"/>
                  <a:pt x="9116" y="13199"/>
                  <a:pt x="8954" y="12973"/>
                </a:cubicBezTo>
                <a:cubicBezTo>
                  <a:pt x="8890" y="12884"/>
                  <a:pt x="8823" y="12934"/>
                  <a:pt x="8756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95760" y="5330880"/>
            <a:ext cx="374400" cy="571320"/>
          </a:xfrm>
          <a:custGeom>
            <a:avLst/>
            <a:gdLst/>
            <a:ahLst/>
            <a:rect l="l" t="t" r="r" b="b"/>
            <a:pathLst>
              <a:path w="1043" h="1589">
                <a:moveTo>
                  <a:pt x="8682" y="14858"/>
                </a:moveTo>
                <a:cubicBezTo>
                  <a:pt x="8575" y="14837"/>
                  <a:pt x="8538" y="14784"/>
                  <a:pt x="8434" y="14858"/>
                </a:cubicBezTo>
                <a:cubicBezTo>
                  <a:pt x="8256" y="14985"/>
                  <a:pt x="8295" y="15206"/>
                  <a:pt x="8334" y="15379"/>
                </a:cubicBezTo>
                <a:cubicBezTo>
                  <a:pt x="8562" y="15347"/>
                  <a:pt x="8748" y="15197"/>
                  <a:pt x="8657" y="14908"/>
                </a:cubicBezTo>
                <a:cubicBezTo>
                  <a:pt x="8609" y="14756"/>
                  <a:pt x="8515" y="14808"/>
                  <a:pt x="8409" y="14833"/>
                </a:cubicBezTo>
              </a:path>
              <a:path w="1043" h="1589">
                <a:moveTo>
                  <a:pt x="7987" y="15949"/>
                </a:moveTo>
                <a:cubicBezTo>
                  <a:pt x="7863" y="15922"/>
                  <a:pt x="7822" y="15956"/>
                  <a:pt x="7789" y="16098"/>
                </a:cubicBezTo>
                <a:cubicBezTo>
                  <a:pt x="7767" y="16250"/>
                  <a:pt x="7749" y="16289"/>
                  <a:pt x="7813" y="16371"/>
                </a:cubicBezTo>
                <a:cubicBezTo>
                  <a:pt x="7987" y="16344"/>
                  <a:pt x="8197" y="16175"/>
                  <a:pt x="8086" y="15925"/>
                </a:cubicBezTo>
                <a:cubicBezTo>
                  <a:pt x="7996" y="15722"/>
                  <a:pt x="7895" y="15863"/>
                  <a:pt x="7863" y="15974"/>
                </a:cubicBezTo>
              </a:path>
              <a:path w="1043" h="1589">
                <a:moveTo>
                  <a:pt x="8682" y="15825"/>
                </a:moveTo>
                <a:cubicBezTo>
                  <a:pt x="8550" y="15858"/>
                  <a:pt x="8520" y="15958"/>
                  <a:pt x="8508" y="16098"/>
                </a:cubicBezTo>
                <a:cubicBezTo>
                  <a:pt x="8508" y="16251"/>
                  <a:pt x="8499" y="16290"/>
                  <a:pt x="8558" y="16371"/>
                </a:cubicBezTo>
                <a:cubicBezTo>
                  <a:pt x="8769" y="16371"/>
                  <a:pt x="8889" y="16175"/>
                  <a:pt x="8781" y="15949"/>
                </a:cubicBezTo>
                <a:cubicBezTo>
                  <a:pt x="8712" y="15805"/>
                  <a:pt x="8625" y="15897"/>
                  <a:pt x="8558" y="159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46240" y="3133800"/>
            <a:ext cx="903600" cy="277560"/>
          </a:xfrm>
          <a:custGeom>
            <a:avLst/>
            <a:gdLst/>
            <a:ahLst/>
            <a:rect l="l" t="t" r="r" b="b"/>
            <a:pathLst>
              <a:path w="2506" h="770">
                <a:moveTo>
                  <a:pt x="9302" y="8880"/>
                </a:moveTo>
                <a:cubicBezTo>
                  <a:pt x="9222" y="8853"/>
                  <a:pt x="9394" y="8798"/>
                  <a:pt x="9451" y="8855"/>
                </a:cubicBezTo>
                <a:cubicBezTo>
                  <a:pt x="9720" y="9125"/>
                  <a:pt x="9273" y="9350"/>
                  <a:pt x="9054" y="9376"/>
                </a:cubicBezTo>
                <a:cubicBezTo>
                  <a:pt x="9013" y="9368"/>
                  <a:pt x="8971" y="9359"/>
                  <a:pt x="8930" y="9351"/>
                </a:cubicBezTo>
                <a:cubicBezTo>
                  <a:pt x="8987" y="9139"/>
                  <a:pt x="9161" y="9122"/>
                  <a:pt x="9376" y="9227"/>
                </a:cubicBezTo>
                <a:cubicBezTo>
                  <a:pt x="9432" y="9283"/>
                  <a:pt x="9457" y="9335"/>
                  <a:pt x="9451" y="9277"/>
                </a:cubicBezTo>
              </a:path>
              <a:path w="2506" h="770">
                <a:moveTo>
                  <a:pt x="9922" y="8731"/>
                </a:moveTo>
                <a:cubicBezTo>
                  <a:pt x="9888" y="8884"/>
                  <a:pt x="9769" y="9147"/>
                  <a:pt x="9823" y="9302"/>
                </a:cubicBezTo>
                <a:cubicBezTo>
                  <a:pt x="9831" y="9294"/>
                  <a:pt x="9839" y="9285"/>
                  <a:pt x="9847" y="9277"/>
                </a:cubicBezTo>
              </a:path>
              <a:path w="2506" h="770">
                <a:moveTo>
                  <a:pt x="10592" y="8706"/>
                </a:moveTo>
                <a:cubicBezTo>
                  <a:pt x="10519" y="8720"/>
                  <a:pt x="10397" y="8707"/>
                  <a:pt x="10344" y="8756"/>
                </a:cubicBezTo>
                <a:cubicBezTo>
                  <a:pt x="10295" y="8802"/>
                  <a:pt x="10264" y="8844"/>
                  <a:pt x="10244" y="8905"/>
                </a:cubicBezTo>
                <a:cubicBezTo>
                  <a:pt x="10309" y="8944"/>
                  <a:pt x="10383" y="8915"/>
                  <a:pt x="10468" y="8930"/>
                </a:cubicBezTo>
                <a:cubicBezTo>
                  <a:pt x="10576" y="8949"/>
                  <a:pt x="10785" y="9016"/>
                  <a:pt x="10666" y="9178"/>
                </a:cubicBezTo>
                <a:cubicBezTo>
                  <a:pt x="10544" y="9345"/>
                  <a:pt x="10351" y="9228"/>
                  <a:pt x="10220" y="9153"/>
                </a:cubicBezTo>
              </a:path>
              <a:path w="2506" h="770">
                <a:moveTo>
                  <a:pt x="8458" y="8930"/>
                </a:moveTo>
                <a:cubicBezTo>
                  <a:pt x="8283" y="8930"/>
                  <a:pt x="8221" y="9056"/>
                  <a:pt x="8186" y="9227"/>
                </a:cubicBezTo>
                <a:cubicBezTo>
                  <a:pt x="8186" y="9378"/>
                  <a:pt x="8170" y="9420"/>
                  <a:pt x="8260" y="9475"/>
                </a:cubicBezTo>
                <a:cubicBezTo>
                  <a:pt x="8503" y="9372"/>
                  <a:pt x="8660" y="9223"/>
                  <a:pt x="8533" y="8930"/>
                </a:cubicBezTo>
                <a:cubicBezTo>
                  <a:pt x="8459" y="8856"/>
                  <a:pt x="8435" y="8831"/>
                  <a:pt x="8359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3760" y="384120"/>
            <a:ext cx="857160" cy="152280"/>
          </a:xfrm>
          <a:custGeom>
            <a:avLst/>
            <a:gdLst/>
            <a:ahLst/>
            <a:rect l="l" t="t" r="r" b="b"/>
            <a:pathLst>
              <a:path w="2382" h="422">
                <a:moveTo>
                  <a:pt x="20389" y="1141"/>
                </a:moveTo>
                <a:cubicBezTo>
                  <a:pt x="20330" y="1220"/>
                  <a:pt x="20305" y="1229"/>
                  <a:pt x="20315" y="1290"/>
                </a:cubicBezTo>
                <a:cubicBezTo>
                  <a:pt x="20379" y="1308"/>
                  <a:pt x="20703" y="1205"/>
                  <a:pt x="20588" y="1141"/>
                </a:cubicBezTo>
                <a:cubicBezTo>
                  <a:pt x="20538" y="1133"/>
                  <a:pt x="20489" y="1124"/>
                  <a:pt x="20439" y="1116"/>
                </a:cubicBezTo>
              </a:path>
              <a:path w="2382" h="422">
                <a:moveTo>
                  <a:pt x="21158" y="1141"/>
                </a:moveTo>
                <a:cubicBezTo>
                  <a:pt x="21286" y="1110"/>
                  <a:pt x="21400" y="1078"/>
                  <a:pt x="21530" y="1067"/>
                </a:cubicBezTo>
              </a:path>
              <a:path w="2382" h="422">
                <a:moveTo>
                  <a:pt x="22671" y="1389"/>
                </a:moveTo>
                <a:cubicBezTo>
                  <a:pt x="22678" y="1423"/>
                  <a:pt x="22689" y="1454"/>
                  <a:pt x="22696" y="14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00880" y="160200"/>
            <a:ext cx="758880" cy="563760"/>
          </a:xfrm>
          <a:custGeom>
            <a:avLst/>
            <a:gdLst/>
            <a:ahLst/>
            <a:rect l="l" t="t" r="r" b="b"/>
            <a:pathLst>
              <a:path w="2109" h="1564">
                <a:moveTo>
                  <a:pt x="18355" y="695"/>
                </a:moveTo>
                <a:cubicBezTo>
                  <a:pt x="18413" y="924"/>
                  <a:pt x="18405" y="1148"/>
                  <a:pt x="18405" y="1389"/>
                </a:cubicBezTo>
                <a:cubicBezTo>
                  <a:pt x="18405" y="1430"/>
                  <a:pt x="18405" y="1472"/>
                  <a:pt x="18405" y="1513"/>
                </a:cubicBezTo>
              </a:path>
              <a:path w="2109" h="1564">
                <a:moveTo>
                  <a:pt x="18604" y="645"/>
                </a:moveTo>
                <a:cubicBezTo>
                  <a:pt x="18756" y="557"/>
                  <a:pt x="18930" y="592"/>
                  <a:pt x="19100" y="571"/>
                </a:cubicBezTo>
                <a:cubicBezTo>
                  <a:pt x="19133" y="563"/>
                  <a:pt x="19166" y="554"/>
                  <a:pt x="19199" y="546"/>
                </a:cubicBezTo>
                <a:cubicBezTo>
                  <a:pt x="19272" y="666"/>
                  <a:pt x="19233" y="982"/>
                  <a:pt x="19224" y="1116"/>
                </a:cubicBezTo>
                <a:cubicBezTo>
                  <a:pt x="19222" y="1143"/>
                  <a:pt x="19143" y="1452"/>
                  <a:pt x="19224" y="1265"/>
                </a:cubicBezTo>
              </a:path>
              <a:path w="2109" h="1564">
                <a:moveTo>
                  <a:pt x="19794" y="546"/>
                </a:moveTo>
                <a:cubicBezTo>
                  <a:pt x="19662" y="707"/>
                  <a:pt x="19624" y="762"/>
                  <a:pt x="19596" y="967"/>
                </a:cubicBezTo>
                <a:cubicBezTo>
                  <a:pt x="19785" y="953"/>
                  <a:pt x="19833" y="821"/>
                  <a:pt x="19794" y="620"/>
                </a:cubicBezTo>
                <a:cubicBezTo>
                  <a:pt x="19775" y="524"/>
                  <a:pt x="19891" y="417"/>
                  <a:pt x="20017" y="446"/>
                </a:cubicBezTo>
                <a:cubicBezTo>
                  <a:pt x="20295" y="510"/>
                  <a:pt x="20119" y="973"/>
                  <a:pt x="20067" y="1116"/>
                </a:cubicBezTo>
                <a:cubicBezTo>
                  <a:pt x="20027" y="1227"/>
                  <a:pt x="19965" y="1302"/>
                  <a:pt x="19943" y="1414"/>
                </a:cubicBezTo>
              </a:path>
              <a:path w="2109" h="1564">
                <a:moveTo>
                  <a:pt x="19496" y="1339"/>
                </a:moveTo>
                <a:cubicBezTo>
                  <a:pt x="19471" y="1339"/>
                  <a:pt x="19447" y="1339"/>
                  <a:pt x="19422" y="1339"/>
                </a:cubicBezTo>
              </a:path>
              <a:path w="2109" h="1564">
                <a:moveTo>
                  <a:pt x="18355" y="2009"/>
                </a:moveTo>
                <a:cubicBezTo>
                  <a:pt x="18249" y="1954"/>
                  <a:pt x="18091" y="1918"/>
                  <a:pt x="18058" y="1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08960" y="285840"/>
            <a:ext cx="115920" cy="54000"/>
          </a:xfrm>
          <a:custGeom>
            <a:avLst/>
            <a:gdLst/>
            <a:ahLst/>
            <a:rect l="l" t="t" r="r" b="b"/>
            <a:pathLst>
              <a:path w="323" h="150">
                <a:moveTo>
                  <a:pt x="21134" y="943"/>
                </a:moveTo>
                <a:cubicBezTo>
                  <a:pt x="21203" y="856"/>
                  <a:pt x="21342" y="838"/>
                  <a:pt x="21456" y="7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75720" y="276120"/>
            <a:ext cx="188640" cy="243000"/>
          </a:xfrm>
          <a:custGeom>
            <a:avLst/>
            <a:gdLst/>
            <a:ahLst/>
            <a:rect l="l" t="t" r="r" b="b"/>
            <a:pathLst>
              <a:path w="522" h="671">
                <a:moveTo>
                  <a:pt x="22126" y="794"/>
                </a:moveTo>
                <a:cubicBezTo>
                  <a:pt x="21932" y="871"/>
                  <a:pt x="21809" y="1120"/>
                  <a:pt x="21903" y="1339"/>
                </a:cubicBezTo>
                <a:cubicBezTo>
                  <a:pt x="21944" y="1372"/>
                  <a:pt x="21986" y="1406"/>
                  <a:pt x="22027" y="1439"/>
                </a:cubicBezTo>
                <a:cubicBezTo>
                  <a:pt x="22276" y="1356"/>
                  <a:pt x="22623" y="1103"/>
                  <a:pt x="22299" y="794"/>
                </a:cubicBezTo>
                <a:cubicBezTo>
                  <a:pt x="22164" y="771"/>
                  <a:pt x="22126" y="757"/>
                  <a:pt x="22051" y="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04120" y="204840"/>
            <a:ext cx="241560" cy="260280"/>
          </a:xfrm>
          <a:custGeom>
            <a:avLst/>
            <a:gdLst/>
            <a:ahLst/>
            <a:rect l="l" t="t" r="r" b="b"/>
            <a:pathLst>
              <a:path w="671" h="720">
                <a:moveTo>
                  <a:pt x="23068" y="819"/>
                </a:moveTo>
                <a:cubicBezTo>
                  <a:pt x="23069" y="828"/>
                  <a:pt x="23118" y="1174"/>
                  <a:pt x="23118" y="1091"/>
                </a:cubicBezTo>
              </a:path>
              <a:path w="671" h="720">
                <a:moveTo>
                  <a:pt x="23242" y="645"/>
                </a:moveTo>
                <a:cubicBezTo>
                  <a:pt x="23381" y="614"/>
                  <a:pt x="23522" y="581"/>
                  <a:pt x="23664" y="571"/>
                </a:cubicBezTo>
                <a:cubicBezTo>
                  <a:pt x="23688" y="571"/>
                  <a:pt x="23697" y="571"/>
                  <a:pt x="23713" y="571"/>
                </a:cubicBezTo>
                <a:cubicBezTo>
                  <a:pt x="23788" y="766"/>
                  <a:pt x="23718" y="1044"/>
                  <a:pt x="23713" y="1265"/>
                </a:cubicBezTo>
                <a:cubicBezTo>
                  <a:pt x="23713" y="1273"/>
                  <a:pt x="23713" y="1282"/>
                  <a:pt x="23713" y="1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6920" y="3054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049" y="8483"/>
                </a:moveTo>
                <a:lnTo>
                  <a:pt x="16049" y="848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6120" y="2938320"/>
            <a:ext cx="1251000" cy="293760"/>
          </a:xfrm>
          <a:custGeom>
            <a:avLst/>
            <a:gdLst/>
            <a:ahLst/>
            <a:rect l="l" t="t" r="r" b="b"/>
            <a:pathLst>
              <a:path w="3473" h="819">
                <a:moveTo>
                  <a:pt x="14709" y="8359"/>
                </a:moveTo>
                <a:cubicBezTo>
                  <a:pt x="14679" y="8483"/>
                  <a:pt x="14626" y="8608"/>
                  <a:pt x="14585" y="8731"/>
                </a:cubicBezTo>
                <a:cubicBezTo>
                  <a:pt x="14631" y="8716"/>
                  <a:pt x="14678" y="8632"/>
                  <a:pt x="14759" y="8632"/>
                </a:cubicBezTo>
                <a:cubicBezTo>
                  <a:pt x="14826" y="8632"/>
                  <a:pt x="14928" y="8670"/>
                  <a:pt x="14957" y="8632"/>
                </a:cubicBezTo>
                <a:cubicBezTo>
                  <a:pt x="14974" y="8607"/>
                  <a:pt x="14990" y="8583"/>
                  <a:pt x="15007" y="8558"/>
                </a:cubicBezTo>
              </a:path>
              <a:path w="3473" h="819">
                <a:moveTo>
                  <a:pt x="14932" y="8260"/>
                </a:moveTo>
                <a:cubicBezTo>
                  <a:pt x="14878" y="8427"/>
                  <a:pt x="14942" y="8603"/>
                  <a:pt x="14957" y="8781"/>
                </a:cubicBezTo>
                <a:cubicBezTo>
                  <a:pt x="14957" y="8859"/>
                  <a:pt x="14942" y="8877"/>
                  <a:pt x="14982" y="8905"/>
                </a:cubicBezTo>
              </a:path>
              <a:path w="3473" h="819">
                <a:moveTo>
                  <a:pt x="15429" y="8756"/>
                </a:moveTo>
                <a:cubicBezTo>
                  <a:pt x="15429" y="8781"/>
                  <a:pt x="15429" y="8789"/>
                  <a:pt x="15429" y="8806"/>
                </a:cubicBezTo>
              </a:path>
              <a:path w="3473" h="819">
                <a:moveTo>
                  <a:pt x="15999" y="8483"/>
                </a:moveTo>
                <a:cubicBezTo>
                  <a:pt x="15862" y="8437"/>
                  <a:pt x="15795" y="8474"/>
                  <a:pt x="15677" y="8558"/>
                </a:cubicBezTo>
                <a:cubicBezTo>
                  <a:pt x="15553" y="8646"/>
                  <a:pt x="15813" y="8767"/>
                  <a:pt x="15850" y="8806"/>
                </a:cubicBezTo>
                <a:cubicBezTo>
                  <a:pt x="15941" y="8902"/>
                  <a:pt x="15893" y="8942"/>
                  <a:pt x="15801" y="8979"/>
                </a:cubicBezTo>
                <a:cubicBezTo>
                  <a:pt x="15724" y="8813"/>
                  <a:pt x="15836" y="8772"/>
                  <a:pt x="15900" y="8607"/>
                </a:cubicBezTo>
                <a:cubicBezTo>
                  <a:pt x="15934" y="8519"/>
                  <a:pt x="15941" y="8483"/>
                  <a:pt x="15925" y="8434"/>
                </a:cubicBezTo>
              </a:path>
              <a:path w="3473" h="819">
                <a:moveTo>
                  <a:pt x="16247" y="8458"/>
                </a:moveTo>
                <a:cubicBezTo>
                  <a:pt x="16172" y="8435"/>
                  <a:pt x="16155" y="8668"/>
                  <a:pt x="16148" y="8756"/>
                </a:cubicBezTo>
                <a:cubicBezTo>
                  <a:pt x="16148" y="8781"/>
                  <a:pt x="16148" y="8805"/>
                  <a:pt x="16148" y="8830"/>
                </a:cubicBezTo>
                <a:cubicBezTo>
                  <a:pt x="16336" y="8787"/>
                  <a:pt x="16387" y="8686"/>
                  <a:pt x="16371" y="8483"/>
                </a:cubicBezTo>
                <a:cubicBezTo>
                  <a:pt x="16369" y="8457"/>
                  <a:pt x="16289" y="8336"/>
                  <a:pt x="16272" y="8359"/>
                </a:cubicBezTo>
                <a:cubicBezTo>
                  <a:pt x="16272" y="8367"/>
                  <a:pt x="16272" y="8376"/>
                  <a:pt x="16272" y="8384"/>
                </a:cubicBezTo>
              </a:path>
              <a:path w="3473" h="819">
                <a:moveTo>
                  <a:pt x="13767" y="8310"/>
                </a:moveTo>
                <a:cubicBezTo>
                  <a:pt x="13815" y="8286"/>
                  <a:pt x="13868" y="8246"/>
                  <a:pt x="13965" y="8235"/>
                </a:cubicBezTo>
                <a:cubicBezTo>
                  <a:pt x="14112" y="8219"/>
                  <a:pt x="14267" y="8225"/>
                  <a:pt x="14412" y="8210"/>
                </a:cubicBezTo>
                <a:cubicBezTo>
                  <a:pt x="14509" y="8200"/>
                  <a:pt x="14613" y="8194"/>
                  <a:pt x="14709" y="8186"/>
                </a:cubicBezTo>
                <a:cubicBezTo>
                  <a:pt x="14815" y="8177"/>
                  <a:pt x="14886" y="8207"/>
                  <a:pt x="14982" y="8210"/>
                </a:cubicBezTo>
                <a:cubicBezTo>
                  <a:pt x="15067" y="8213"/>
                  <a:pt x="15158" y="8205"/>
                  <a:pt x="15230" y="8210"/>
                </a:cubicBezTo>
                <a:cubicBezTo>
                  <a:pt x="15311" y="8215"/>
                  <a:pt x="15376" y="8194"/>
                  <a:pt x="15453" y="8186"/>
                </a:cubicBezTo>
                <a:cubicBezTo>
                  <a:pt x="15571" y="8173"/>
                  <a:pt x="15684" y="8207"/>
                  <a:pt x="15801" y="8210"/>
                </a:cubicBezTo>
                <a:cubicBezTo>
                  <a:pt x="15945" y="8214"/>
                  <a:pt x="16079" y="8189"/>
                  <a:pt x="16222" y="8186"/>
                </a:cubicBezTo>
                <a:cubicBezTo>
                  <a:pt x="16397" y="8182"/>
                  <a:pt x="16567" y="8161"/>
                  <a:pt x="16743" y="8161"/>
                </a:cubicBezTo>
                <a:cubicBezTo>
                  <a:pt x="16908" y="8161"/>
                  <a:pt x="17074" y="8161"/>
                  <a:pt x="17239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72040" y="4929120"/>
            <a:ext cx="2428920" cy="285840"/>
          </a:xfrm>
          <a:custGeom>
            <a:avLst/>
            <a:gdLst/>
            <a:ahLst/>
            <a:rect l="l" t="t" r="r" b="b"/>
            <a:pathLst>
              <a:path w="6748" h="795">
                <a:moveTo>
                  <a:pt x="14139" y="13915"/>
                </a:moveTo>
                <a:cubicBezTo>
                  <a:pt x="14123" y="14107"/>
                  <a:pt x="14113" y="14296"/>
                  <a:pt x="14089" y="14486"/>
                </a:cubicBezTo>
              </a:path>
              <a:path w="6748" h="795">
                <a:moveTo>
                  <a:pt x="18355" y="14163"/>
                </a:moveTo>
                <a:cubicBezTo>
                  <a:pt x="18355" y="14155"/>
                  <a:pt x="18355" y="14147"/>
                  <a:pt x="18355" y="14139"/>
                </a:cubicBezTo>
              </a:path>
              <a:path w="6748" h="795">
                <a:moveTo>
                  <a:pt x="20117" y="13692"/>
                </a:moveTo>
                <a:lnTo>
                  <a:pt x="20117" y="13692"/>
                </a:lnTo>
              </a:path>
              <a:path w="6748" h="795">
                <a:moveTo>
                  <a:pt x="20117" y="13717"/>
                </a:moveTo>
                <a:lnTo>
                  <a:pt x="20117" y="13717"/>
                </a:lnTo>
              </a:path>
              <a:path w="6748" h="795">
                <a:moveTo>
                  <a:pt x="20811" y="13841"/>
                </a:moveTo>
                <a:cubicBezTo>
                  <a:pt x="20811" y="13883"/>
                  <a:pt x="20803" y="13899"/>
                  <a:pt x="20836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41920" y="5018040"/>
            <a:ext cx="500040" cy="223920"/>
          </a:xfrm>
          <a:custGeom>
            <a:avLst/>
            <a:gdLst/>
            <a:ahLst/>
            <a:rect l="l" t="t" r="r" b="b"/>
            <a:pathLst>
              <a:path w="1390" h="621">
                <a:moveTo>
                  <a:pt x="13444" y="13965"/>
                </a:moveTo>
                <a:cubicBezTo>
                  <a:pt x="13400" y="14009"/>
                  <a:pt x="13512" y="13865"/>
                  <a:pt x="13568" y="14015"/>
                </a:cubicBezTo>
                <a:cubicBezTo>
                  <a:pt x="13642" y="14212"/>
                  <a:pt x="13510" y="14602"/>
                  <a:pt x="13246" y="14560"/>
                </a:cubicBezTo>
                <a:cubicBezTo>
                  <a:pt x="13221" y="14535"/>
                  <a:pt x="13196" y="14511"/>
                  <a:pt x="13171" y="14486"/>
                </a:cubicBezTo>
                <a:cubicBezTo>
                  <a:pt x="13282" y="14292"/>
                  <a:pt x="13404" y="14314"/>
                  <a:pt x="13568" y="14486"/>
                </a:cubicBezTo>
                <a:cubicBezTo>
                  <a:pt x="13576" y="14503"/>
                  <a:pt x="13585" y="14519"/>
                  <a:pt x="13593" y="14536"/>
                </a:cubicBezTo>
              </a:path>
              <a:path w="1390" h="621">
                <a:moveTo>
                  <a:pt x="13841" y="14064"/>
                </a:moveTo>
                <a:cubicBezTo>
                  <a:pt x="13822" y="14138"/>
                  <a:pt x="13814" y="14145"/>
                  <a:pt x="13816" y="14188"/>
                </a:cubicBezTo>
                <a:cubicBezTo>
                  <a:pt x="13950" y="14188"/>
                  <a:pt x="14059" y="14175"/>
                  <a:pt x="14188" y="14139"/>
                </a:cubicBezTo>
              </a:path>
              <a:path w="1390" h="621">
                <a:moveTo>
                  <a:pt x="14536" y="14337"/>
                </a:moveTo>
                <a:cubicBezTo>
                  <a:pt x="14465" y="14422"/>
                  <a:pt x="14484" y="14514"/>
                  <a:pt x="14560" y="14412"/>
                </a:cubicBezTo>
                <a:cubicBezTo>
                  <a:pt x="14594" y="14366"/>
                  <a:pt x="14488" y="14366"/>
                  <a:pt x="14461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57880" y="4929120"/>
            <a:ext cx="723960" cy="374760"/>
          </a:xfrm>
          <a:custGeom>
            <a:avLst/>
            <a:gdLst/>
            <a:ahLst/>
            <a:rect l="l" t="t" r="r" b="b"/>
            <a:pathLst>
              <a:path w="2010" h="1043">
                <a:moveTo>
                  <a:pt x="15081" y="13841"/>
                </a:moveTo>
                <a:cubicBezTo>
                  <a:pt x="15018" y="13841"/>
                  <a:pt x="14963" y="13834"/>
                  <a:pt x="14932" y="13866"/>
                </a:cubicBezTo>
                <a:cubicBezTo>
                  <a:pt x="14880" y="13920"/>
                  <a:pt x="14888" y="14015"/>
                  <a:pt x="14883" y="14089"/>
                </a:cubicBezTo>
                <a:cubicBezTo>
                  <a:pt x="14883" y="14097"/>
                  <a:pt x="14883" y="14106"/>
                  <a:pt x="14883" y="14114"/>
                </a:cubicBezTo>
                <a:cubicBezTo>
                  <a:pt x="14971" y="14074"/>
                  <a:pt x="15103" y="13974"/>
                  <a:pt x="15205" y="14064"/>
                </a:cubicBezTo>
                <a:cubicBezTo>
                  <a:pt x="15424" y="14257"/>
                  <a:pt x="15059" y="14324"/>
                  <a:pt x="14957" y="14337"/>
                </a:cubicBezTo>
              </a:path>
              <a:path w="2010" h="1043">
                <a:moveTo>
                  <a:pt x="15478" y="14362"/>
                </a:moveTo>
                <a:cubicBezTo>
                  <a:pt x="15521" y="14465"/>
                  <a:pt x="15633" y="14578"/>
                  <a:pt x="15528" y="14684"/>
                </a:cubicBezTo>
                <a:cubicBezTo>
                  <a:pt x="15495" y="14701"/>
                  <a:pt x="15462" y="14717"/>
                  <a:pt x="15429" y="14734"/>
                </a:cubicBezTo>
              </a:path>
              <a:path w="2010" h="1043">
                <a:moveTo>
                  <a:pt x="15900" y="13841"/>
                </a:moveTo>
                <a:cubicBezTo>
                  <a:pt x="15900" y="13950"/>
                  <a:pt x="15853" y="14022"/>
                  <a:pt x="15801" y="14114"/>
                </a:cubicBezTo>
                <a:cubicBezTo>
                  <a:pt x="15911" y="14039"/>
                  <a:pt x="15997" y="14072"/>
                  <a:pt x="16123" y="14089"/>
                </a:cubicBezTo>
                <a:cubicBezTo>
                  <a:pt x="16131" y="14089"/>
                  <a:pt x="16140" y="14089"/>
                  <a:pt x="16148" y="14089"/>
                </a:cubicBezTo>
              </a:path>
              <a:path w="2010" h="1043">
                <a:moveTo>
                  <a:pt x="16173" y="13692"/>
                </a:moveTo>
                <a:cubicBezTo>
                  <a:pt x="16173" y="13886"/>
                  <a:pt x="16139" y="14071"/>
                  <a:pt x="16123" y="14263"/>
                </a:cubicBezTo>
                <a:cubicBezTo>
                  <a:pt x="16123" y="14337"/>
                  <a:pt x="16123" y="14395"/>
                  <a:pt x="16123" y="14337"/>
                </a:cubicBezTo>
              </a:path>
              <a:path w="2010" h="1043">
                <a:moveTo>
                  <a:pt x="16396" y="14188"/>
                </a:moveTo>
                <a:cubicBezTo>
                  <a:pt x="16396" y="14237"/>
                  <a:pt x="16396" y="14337"/>
                  <a:pt x="16396" y="14288"/>
                </a:cubicBezTo>
              </a:path>
              <a:path w="2010" h="1043">
                <a:moveTo>
                  <a:pt x="16842" y="13767"/>
                </a:moveTo>
                <a:cubicBezTo>
                  <a:pt x="16897" y="13639"/>
                  <a:pt x="16755" y="13674"/>
                  <a:pt x="16669" y="13717"/>
                </a:cubicBezTo>
                <a:cubicBezTo>
                  <a:pt x="16636" y="13742"/>
                  <a:pt x="16603" y="13766"/>
                  <a:pt x="16570" y="13791"/>
                </a:cubicBezTo>
                <a:cubicBezTo>
                  <a:pt x="16629" y="13949"/>
                  <a:pt x="16772" y="14036"/>
                  <a:pt x="16892" y="14188"/>
                </a:cubicBezTo>
                <a:cubicBezTo>
                  <a:pt x="16744" y="14223"/>
                  <a:pt x="16618" y="14249"/>
                  <a:pt x="16694" y="14064"/>
                </a:cubicBezTo>
                <a:cubicBezTo>
                  <a:pt x="16705" y="14036"/>
                  <a:pt x="16934" y="13733"/>
                  <a:pt x="16793" y="13767"/>
                </a:cubicBezTo>
                <a:cubicBezTo>
                  <a:pt x="16752" y="13787"/>
                  <a:pt x="16735" y="13784"/>
                  <a:pt x="16743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5080" y="4894200"/>
            <a:ext cx="98640" cy="17784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18901" y="13593"/>
                </a:moveTo>
                <a:cubicBezTo>
                  <a:pt x="18762" y="13622"/>
                  <a:pt x="18549" y="13700"/>
                  <a:pt x="18703" y="13891"/>
                </a:cubicBezTo>
                <a:cubicBezTo>
                  <a:pt x="18795" y="14005"/>
                  <a:pt x="18912" y="14027"/>
                  <a:pt x="18728" y="14089"/>
                </a:cubicBezTo>
                <a:cubicBezTo>
                  <a:pt x="18759" y="13904"/>
                  <a:pt x="18858" y="13768"/>
                  <a:pt x="18926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42120" y="4875120"/>
            <a:ext cx="142920" cy="189000"/>
          </a:xfrm>
          <a:custGeom>
            <a:avLst/>
            <a:gdLst/>
            <a:ahLst/>
            <a:rect l="l" t="t" r="r" b="b"/>
            <a:pathLst>
              <a:path w="397" h="522">
                <a:moveTo>
                  <a:pt x="20265" y="13568"/>
                </a:moveTo>
                <a:cubicBezTo>
                  <a:pt x="20273" y="13560"/>
                  <a:pt x="20282" y="13551"/>
                  <a:pt x="20290" y="13543"/>
                </a:cubicBezTo>
                <a:cubicBezTo>
                  <a:pt x="20239" y="13543"/>
                  <a:pt x="20232" y="13544"/>
                  <a:pt x="20191" y="13568"/>
                </a:cubicBezTo>
                <a:cubicBezTo>
                  <a:pt x="20130" y="13603"/>
                  <a:pt x="20117" y="13624"/>
                  <a:pt x="20117" y="13692"/>
                </a:cubicBezTo>
              </a:path>
              <a:path w="397" h="522">
                <a:moveTo>
                  <a:pt x="20117" y="13767"/>
                </a:moveTo>
                <a:cubicBezTo>
                  <a:pt x="20117" y="13848"/>
                  <a:pt x="20073" y="14064"/>
                  <a:pt x="20216" y="14064"/>
                </a:cubicBezTo>
                <a:cubicBezTo>
                  <a:pt x="20406" y="14064"/>
                  <a:pt x="20522" y="13950"/>
                  <a:pt x="20513" y="13767"/>
                </a:cubicBezTo>
                <a:cubicBezTo>
                  <a:pt x="20505" y="13593"/>
                  <a:pt x="20387" y="13603"/>
                  <a:pt x="20265" y="13568"/>
                </a:cubicBezTo>
                <a:cubicBezTo>
                  <a:pt x="20216" y="13543"/>
                  <a:pt x="20199" y="13535"/>
                  <a:pt x="20191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72240" y="4795920"/>
            <a:ext cx="438120" cy="187200"/>
          </a:xfrm>
          <a:custGeom>
            <a:avLst/>
            <a:gdLst/>
            <a:ahLst/>
            <a:rect l="l" t="t" r="r" b="b"/>
            <a:pathLst>
              <a:path w="1217" h="522">
                <a:moveTo>
                  <a:pt x="21034" y="13469"/>
                </a:moveTo>
                <a:cubicBezTo>
                  <a:pt x="21122" y="13381"/>
                  <a:pt x="21229" y="13512"/>
                  <a:pt x="21258" y="13618"/>
                </a:cubicBezTo>
                <a:cubicBezTo>
                  <a:pt x="21286" y="13722"/>
                  <a:pt x="21169" y="13848"/>
                  <a:pt x="21059" y="13791"/>
                </a:cubicBezTo>
                <a:cubicBezTo>
                  <a:pt x="21051" y="13775"/>
                  <a:pt x="21042" y="13758"/>
                  <a:pt x="21034" y="13742"/>
                </a:cubicBezTo>
                <a:cubicBezTo>
                  <a:pt x="21059" y="13705"/>
                  <a:pt x="21206" y="13690"/>
                  <a:pt x="21258" y="13742"/>
                </a:cubicBezTo>
                <a:cubicBezTo>
                  <a:pt x="21258" y="13786"/>
                  <a:pt x="21255" y="13799"/>
                  <a:pt x="21282" y="13816"/>
                </a:cubicBezTo>
              </a:path>
              <a:path w="1217" h="522">
                <a:moveTo>
                  <a:pt x="21382" y="13419"/>
                </a:moveTo>
                <a:cubicBezTo>
                  <a:pt x="21382" y="13485"/>
                  <a:pt x="21382" y="13552"/>
                  <a:pt x="21382" y="13618"/>
                </a:cubicBezTo>
                <a:cubicBezTo>
                  <a:pt x="21509" y="13631"/>
                  <a:pt x="21538" y="13640"/>
                  <a:pt x="21654" y="13593"/>
                </a:cubicBezTo>
              </a:path>
              <a:path w="1217" h="522">
                <a:moveTo>
                  <a:pt x="21679" y="13345"/>
                </a:moveTo>
                <a:cubicBezTo>
                  <a:pt x="21652" y="13524"/>
                  <a:pt x="21672" y="13640"/>
                  <a:pt x="21704" y="13816"/>
                </a:cubicBezTo>
                <a:cubicBezTo>
                  <a:pt x="21704" y="13824"/>
                  <a:pt x="21704" y="13833"/>
                  <a:pt x="21704" y="13841"/>
                </a:cubicBezTo>
              </a:path>
              <a:path w="1217" h="522">
                <a:moveTo>
                  <a:pt x="22126" y="13320"/>
                </a:moveTo>
                <a:cubicBezTo>
                  <a:pt x="22052" y="13326"/>
                  <a:pt x="21986" y="13325"/>
                  <a:pt x="21952" y="13370"/>
                </a:cubicBezTo>
                <a:cubicBezTo>
                  <a:pt x="21909" y="13427"/>
                  <a:pt x="21903" y="13473"/>
                  <a:pt x="21903" y="13543"/>
                </a:cubicBezTo>
                <a:cubicBezTo>
                  <a:pt x="21991" y="13543"/>
                  <a:pt x="22096" y="13495"/>
                  <a:pt x="22175" y="13543"/>
                </a:cubicBezTo>
                <a:cubicBezTo>
                  <a:pt x="22377" y="13666"/>
                  <a:pt x="22163" y="13751"/>
                  <a:pt x="22051" y="13791"/>
                </a:cubicBezTo>
                <a:cubicBezTo>
                  <a:pt x="21994" y="13810"/>
                  <a:pt x="21969" y="13836"/>
                  <a:pt x="21977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26040" y="5045040"/>
            <a:ext cx="2946240" cy="830160"/>
          </a:xfrm>
          <a:custGeom>
            <a:avLst/>
            <a:gdLst/>
            <a:ahLst/>
            <a:rect l="l" t="t" r="r" b="b"/>
            <a:pathLst>
              <a:path w="8186" h="2307">
                <a:moveTo>
                  <a:pt x="17289" y="14312"/>
                </a:moveTo>
                <a:cubicBezTo>
                  <a:pt x="17282" y="14501"/>
                  <a:pt x="17293" y="14540"/>
                  <a:pt x="17190" y="14684"/>
                </a:cubicBezTo>
              </a:path>
              <a:path w="8186" h="2307">
                <a:moveTo>
                  <a:pt x="19372" y="14015"/>
                </a:moveTo>
                <a:cubicBezTo>
                  <a:pt x="19359" y="14165"/>
                  <a:pt x="19376" y="14210"/>
                  <a:pt x="19273" y="14312"/>
                </a:cubicBezTo>
              </a:path>
              <a:path w="8186" h="2307">
                <a:moveTo>
                  <a:pt x="14238" y="16049"/>
                </a:moveTo>
                <a:cubicBezTo>
                  <a:pt x="14258" y="16089"/>
                  <a:pt x="14267" y="16095"/>
                  <a:pt x="14263" y="16123"/>
                </a:cubicBezTo>
              </a:path>
              <a:path w="8186" h="2307">
                <a:moveTo>
                  <a:pt x="15007" y="15974"/>
                </a:moveTo>
                <a:cubicBezTo>
                  <a:pt x="15061" y="16083"/>
                  <a:pt x="15176" y="16266"/>
                  <a:pt x="14982" y="16321"/>
                </a:cubicBezTo>
                <a:cubicBezTo>
                  <a:pt x="14949" y="16313"/>
                  <a:pt x="14916" y="16305"/>
                  <a:pt x="14883" y="16297"/>
                </a:cubicBezTo>
              </a:path>
              <a:path w="8186" h="2307">
                <a:moveTo>
                  <a:pt x="16669" y="16049"/>
                </a:moveTo>
                <a:cubicBezTo>
                  <a:pt x="16669" y="16115"/>
                  <a:pt x="16677" y="16140"/>
                  <a:pt x="16619" y="16123"/>
                </a:cubicBezTo>
              </a:path>
              <a:path w="8186" h="2307">
                <a:moveTo>
                  <a:pt x="19323" y="15801"/>
                </a:moveTo>
                <a:cubicBezTo>
                  <a:pt x="19343" y="15933"/>
                  <a:pt x="19369" y="15980"/>
                  <a:pt x="19298" y="16073"/>
                </a:cubicBezTo>
              </a:path>
              <a:path w="8186" h="2307">
                <a:moveTo>
                  <a:pt x="20910" y="15503"/>
                </a:moveTo>
                <a:cubicBezTo>
                  <a:pt x="20918" y="15520"/>
                  <a:pt x="20927" y="15536"/>
                  <a:pt x="20935" y="15553"/>
                </a:cubicBezTo>
              </a:path>
              <a:path w="8186" h="2307">
                <a:moveTo>
                  <a:pt x="22151" y="15478"/>
                </a:moveTo>
                <a:cubicBezTo>
                  <a:pt x="22251" y="15540"/>
                  <a:pt x="22544" y="15524"/>
                  <a:pt x="22423" y="15304"/>
                </a:cubicBezTo>
                <a:cubicBezTo>
                  <a:pt x="22317" y="15252"/>
                  <a:pt x="22277" y="15238"/>
                  <a:pt x="22200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49840" y="5589720"/>
            <a:ext cx="617400" cy="250560"/>
          </a:xfrm>
          <a:custGeom>
            <a:avLst/>
            <a:gdLst/>
            <a:ahLst/>
            <a:rect l="l" t="t" r="r" b="b"/>
            <a:pathLst>
              <a:path w="1713" h="695">
                <a:moveTo>
                  <a:pt x="13419" y="15726"/>
                </a:moveTo>
                <a:cubicBezTo>
                  <a:pt x="13397" y="15749"/>
                  <a:pt x="13389" y="15760"/>
                  <a:pt x="13395" y="15726"/>
                </a:cubicBezTo>
                <a:cubicBezTo>
                  <a:pt x="13513" y="15606"/>
                  <a:pt x="13618" y="15688"/>
                  <a:pt x="13618" y="15875"/>
                </a:cubicBezTo>
                <a:cubicBezTo>
                  <a:pt x="13618" y="16136"/>
                  <a:pt x="13351" y="16238"/>
                  <a:pt x="13196" y="16148"/>
                </a:cubicBezTo>
                <a:cubicBezTo>
                  <a:pt x="13300" y="16003"/>
                  <a:pt x="13392" y="15938"/>
                  <a:pt x="13519" y="16123"/>
                </a:cubicBezTo>
                <a:cubicBezTo>
                  <a:pt x="13519" y="16148"/>
                  <a:pt x="13519" y="16156"/>
                  <a:pt x="13543" y="16148"/>
                </a:cubicBezTo>
              </a:path>
              <a:path w="1713" h="695">
                <a:moveTo>
                  <a:pt x="13717" y="15701"/>
                </a:moveTo>
                <a:cubicBezTo>
                  <a:pt x="13700" y="15785"/>
                  <a:pt x="13650" y="15867"/>
                  <a:pt x="13618" y="15949"/>
                </a:cubicBezTo>
                <a:cubicBezTo>
                  <a:pt x="13826" y="15975"/>
                  <a:pt x="13927" y="15930"/>
                  <a:pt x="14089" y="15801"/>
                </a:cubicBezTo>
              </a:path>
              <a:path w="1713" h="695">
                <a:moveTo>
                  <a:pt x="13965" y="15528"/>
                </a:moveTo>
                <a:cubicBezTo>
                  <a:pt x="13965" y="15751"/>
                  <a:pt x="13969" y="15957"/>
                  <a:pt x="13915" y="16173"/>
                </a:cubicBezTo>
              </a:path>
              <a:path w="1713" h="695">
                <a:moveTo>
                  <a:pt x="14684" y="15553"/>
                </a:moveTo>
                <a:cubicBezTo>
                  <a:pt x="14599" y="15516"/>
                  <a:pt x="14591" y="15509"/>
                  <a:pt x="14536" y="15602"/>
                </a:cubicBezTo>
                <a:cubicBezTo>
                  <a:pt x="14487" y="15685"/>
                  <a:pt x="14486" y="15696"/>
                  <a:pt x="14486" y="15776"/>
                </a:cubicBezTo>
                <a:cubicBezTo>
                  <a:pt x="14563" y="15776"/>
                  <a:pt x="14638" y="15723"/>
                  <a:pt x="14709" y="15726"/>
                </a:cubicBezTo>
                <a:cubicBezTo>
                  <a:pt x="14795" y="15729"/>
                  <a:pt x="14958" y="15845"/>
                  <a:pt x="14908" y="15949"/>
                </a:cubicBezTo>
                <a:cubicBezTo>
                  <a:pt x="14833" y="16104"/>
                  <a:pt x="14640" y="16076"/>
                  <a:pt x="14511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7800" y="5438880"/>
            <a:ext cx="295200" cy="436320"/>
          </a:xfrm>
          <a:custGeom>
            <a:avLst/>
            <a:gdLst/>
            <a:ahLst/>
            <a:rect l="l" t="t" r="r" b="b"/>
            <a:pathLst>
              <a:path w="820" h="1216">
                <a:moveTo>
                  <a:pt x="15503" y="15255"/>
                </a:moveTo>
                <a:cubicBezTo>
                  <a:pt x="15541" y="15217"/>
                  <a:pt x="15564" y="15199"/>
                  <a:pt x="15602" y="15180"/>
                </a:cubicBezTo>
                <a:cubicBezTo>
                  <a:pt x="15782" y="15292"/>
                  <a:pt x="15750" y="15483"/>
                  <a:pt x="15553" y="15627"/>
                </a:cubicBezTo>
                <a:cubicBezTo>
                  <a:pt x="15520" y="15635"/>
                  <a:pt x="15486" y="15644"/>
                  <a:pt x="15453" y="15652"/>
                </a:cubicBezTo>
                <a:cubicBezTo>
                  <a:pt x="15440" y="15555"/>
                  <a:pt x="15482" y="15473"/>
                  <a:pt x="15602" y="15528"/>
                </a:cubicBezTo>
                <a:cubicBezTo>
                  <a:pt x="15724" y="15584"/>
                  <a:pt x="15630" y="15610"/>
                  <a:pt x="15726" y="15577"/>
                </a:cubicBezTo>
              </a:path>
              <a:path w="820" h="1216">
                <a:moveTo>
                  <a:pt x="15850" y="15230"/>
                </a:moveTo>
                <a:cubicBezTo>
                  <a:pt x="15839" y="15293"/>
                  <a:pt x="15796" y="15384"/>
                  <a:pt x="15875" y="15429"/>
                </a:cubicBezTo>
                <a:cubicBezTo>
                  <a:pt x="16055" y="15533"/>
                  <a:pt x="16103" y="15391"/>
                  <a:pt x="16148" y="15255"/>
                </a:cubicBezTo>
              </a:path>
              <a:path w="820" h="1216">
                <a:moveTo>
                  <a:pt x="16073" y="15106"/>
                </a:moveTo>
                <a:cubicBezTo>
                  <a:pt x="16060" y="15298"/>
                  <a:pt x="16049" y="15484"/>
                  <a:pt x="16049" y="15677"/>
                </a:cubicBezTo>
                <a:cubicBezTo>
                  <a:pt x="16049" y="15685"/>
                  <a:pt x="16049" y="15693"/>
                  <a:pt x="16049" y="15701"/>
                </a:cubicBezTo>
              </a:path>
              <a:path w="820" h="1216">
                <a:moveTo>
                  <a:pt x="15354" y="15850"/>
                </a:moveTo>
                <a:cubicBezTo>
                  <a:pt x="15582" y="15814"/>
                  <a:pt x="15949" y="15659"/>
                  <a:pt x="16173" y="15701"/>
                </a:cubicBezTo>
                <a:cubicBezTo>
                  <a:pt x="16173" y="15718"/>
                  <a:pt x="16173" y="15734"/>
                  <a:pt x="16173" y="15751"/>
                </a:cubicBezTo>
              </a:path>
              <a:path w="820" h="1216">
                <a:moveTo>
                  <a:pt x="15974" y="15900"/>
                </a:moveTo>
                <a:cubicBezTo>
                  <a:pt x="15904" y="15900"/>
                  <a:pt x="15778" y="15874"/>
                  <a:pt x="15751" y="15925"/>
                </a:cubicBezTo>
                <a:cubicBezTo>
                  <a:pt x="15704" y="16014"/>
                  <a:pt x="15701" y="16055"/>
                  <a:pt x="15701" y="16148"/>
                </a:cubicBezTo>
                <a:cubicBezTo>
                  <a:pt x="15806" y="16148"/>
                  <a:pt x="15925" y="16127"/>
                  <a:pt x="16024" y="16173"/>
                </a:cubicBezTo>
                <a:cubicBezTo>
                  <a:pt x="16024" y="16181"/>
                  <a:pt x="16024" y="16189"/>
                  <a:pt x="16024" y="16197"/>
                </a:cubicBezTo>
                <a:cubicBezTo>
                  <a:pt x="15815" y="16388"/>
                  <a:pt x="15703" y="16327"/>
                  <a:pt x="15478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2040" y="4919760"/>
            <a:ext cx="581040" cy="938160"/>
          </a:xfrm>
          <a:custGeom>
            <a:avLst/>
            <a:gdLst/>
            <a:ahLst/>
            <a:rect l="l" t="t" r="r" b="b"/>
            <a:pathLst>
              <a:path w="1614" h="2606">
                <a:moveTo>
                  <a:pt x="17959" y="13742"/>
                </a:moveTo>
                <a:cubicBezTo>
                  <a:pt x="17934" y="13742"/>
                  <a:pt x="17926" y="13742"/>
                  <a:pt x="17934" y="13717"/>
                </a:cubicBezTo>
                <a:cubicBezTo>
                  <a:pt x="18052" y="13638"/>
                  <a:pt x="18144" y="13657"/>
                  <a:pt x="18132" y="13841"/>
                </a:cubicBezTo>
                <a:cubicBezTo>
                  <a:pt x="18113" y="14135"/>
                  <a:pt x="17943" y="14228"/>
                  <a:pt x="17686" y="14213"/>
                </a:cubicBezTo>
                <a:cubicBezTo>
                  <a:pt x="17736" y="14094"/>
                  <a:pt x="17883" y="13966"/>
                  <a:pt x="18008" y="14139"/>
                </a:cubicBezTo>
                <a:cubicBezTo>
                  <a:pt x="18028" y="14216"/>
                  <a:pt x="18020" y="14234"/>
                  <a:pt x="18058" y="14263"/>
                </a:cubicBezTo>
              </a:path>
              <a:path w="1614" h="2606">
                <a:moveTo>
                  <a:pt x="17363" y="15255"/>
                </a:moveTo>
                <a:cubicBezTo>
                  <a:pt x="17363" y="15347"/>
                  <a:pt x="17347" y="15349"/>
                  <a:pt x="17388" y="15404"/>
                </a:cubicBezTo>
                <a:cubicBezTo>
                  <a:pt x="17460" y="15242"/>
                  <a:pt x="17634" y="15208"/>
                  <a:pt x="17711" y="15429"/>
                </a:cubicBezTo>
                <a:cubicBezTo>
                  <a:pt x="17819" y="15738"/>
                  <a:pt x="17587" y="15923"/>
                  <a:pt x="17338" y="15949"/>
                </a:cubicBezTo>
                <a:cubicBezTo>
                  <a:pt x="17366" y="15743"/>
                  <a:pt x="17437" y="15716"/>
                  <a:pt x="17636" y="15825"/>
                </a:cubicBezTo>
                <a:cubicBezTo>
                  <a:pt x="17735" y="15880"/>
                  <a:pt x="17718" y="15934"/>
                  <a:pt x="17785" y="15900"/>
                </a:cubicBezTo>
              </a:path>
              <a:path w="1614" h="2606">
                <a:moveTo>
                  <a:pt x="18380" y="15106"/>
                </a:moveTo>
                <a:cubicBezTo>
                  <a:pt x="18352" y="15162"/>
                  <a:pt x="18342" y="15235"/>
                  <a:pt x="18331" y="15304"/>
                </a:cubicBezTo>
                <a:cubicBezTo>
                  <a:pt x="18458" y="15322"/>
                  <a:pt x="18507" y="15305"/>
                  <a:pt x="18628" y="15255"/>
                </a:cubicBezTo>
              </a:path>
              <a:path w="1614" h="2606">
                <a:moveTo>
                  <a:pt x="18554" y="14982"/>
                </a:moveTo>
                <a:cubicBezTo>
                  <a:pt x="18554" y="15127"/>
                  <a:pt x="18588" y="15261"/>
                  <a:pt x="18604" y="15404"/>
                </a:cubicBezTo>
                <a:cubicBezTo>
                  <a:pt x="18604" y="15429"/>
                  <a:pt x="18604" y="15453"/>
                  <a:pt x="18604" y="15478"/>
                </a:cubicBezTo>
              </a:path>
              <a:path w="1614" h="2606">
                <a:moveTo>
                  <a:pt x="18281" y="15677"/>
                </a:moveTo>
                <a:cubicBezTo>
                  <a:pt x="18505" y="15628"/>
                  <a:pt x="18722" y="15589"/>
                  <a:pt x="18951" y="15577"/>
                </a:cubicBezTo>
              </a:path>
              <a:path w="1614" h="2606">
                <a:moveTo>
                  <a:pt x="18802" y="15900"/>
                </a:moveTo>
                <a:cubicBezTo>
                  <a:pt x="18732" y="15886"/>
                  <a:pt x="18529" y="15886"/>
                  <a:pt x="18504" y="15999"/>
                </a:cubicBezTo>
                <a:cubicBezTo>
                  <a:pt x="18480" y="16110"/>
                  <a:pt x="18707" y="16166"/>
                  <a:pt x="18752" y="16222"/>
                </a:cubicBezTo>
                <a:cubicBezTo>
                  <a:pt x="18672" y="16276"/>
                  <a:pt x="18641" y="16289"/>
                  <a:pt x="18579" y="16222"/>
                </a:cubicBezTo>
                <a:cubicBezTo>
                  <a:pt x="18565" y="16037"/>
                  <a:pt x="18673" y="16020"/>
                  <a:pt x="18777" y="15875"/>
                </a:cubicBezTo>
                <a:cubicBezTo>
                  <a:pt x="18777" y="15867"/>
                  <a:pt x="18777" y="15858"/>
                  <a:pt x="18777" y="158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4120" y="5295960"/>
            <a:ext cx="804960" cy="339840"/>
          </a:xfrm>
          <a:custGeom>
            <a:avLst/>
            <a:gdLst/>
            <a:ahLst/>
            <a:rect l="l" t="t" r="r" b="b"/>
            <a:pathLst>
              <a:path w="2233" h="944">
                <a:moveTo>
                  <a:pt x="19993" y="15156"/>
                </a:moveTo>
                <a:cubicBezTo>
                  <a:pt x="19993" y="15230"/>
                  <a:pt x="19992" y="15189"/>
                  <a:pt x="20092" y="15106"/>
                </a:cubicBezTo>
                <a:cubicBezTo>
                  <a:pt x="20277" y="15230"/>
                  <a:pt x="20296" y="15417"/>
                  <a:pt x="20092" y="15577"/>
                </a:cubicBezTo>
                <a:cubicBezTo>
                  <a:pt x="19945" y="15640"/>
                  <a:pt x="19915" y="15673"/>
                  <a:pt x="19819" y="15627"/>
                </a:cubicBezTo>
                <a:cubicBezTo>
                  <a:pt x="19873" y="15501"/>
                  <a:pt x="19970" y="15430"/>
                  <a:pt x="20117" y="15503"/>
                </a:cubicBezTo>
                <a:cubicBezTo>
                  <a:pt x="20180" y="15566"/>
                  <a:pt x="20197" y="15576"/>
                  <a:pt x="20216" y="15627"/>
                </a:cubicBezTo>
              </a:path>
              <a:path w="2233" h="944">
                <a:moveTo>
                  <a:pt x="20414" y="15156"/>
                </a:moveTo>
                <a:cubicBezTo>
                  <a:pt x="20414" y="15238"/>
                  <a:pt x="20414" y="15255"/>
                  <a:pt x="20414" y="15304"/>
                </a:cubicBezTo>
                <a:cubicBezTo>
                  <a:pt x="20534" y="15319"/>
                  <a:pt x="20618" y="15315"/>
                  <a:pt x="20737" y="15304"/>
                </a:cubicBezTo>
              </a:path>
              <a:path w="2233" h="944">
                <a:moveTo>
                  <a:pt x="20662" y="14932"/>
                </a:moveTo>
                <a:cubicBezTo>
                  <a:pt x="20655" y="15165"/>
                  <a:pt x="20649" y="15399"/>
                  <a:pt x="20613" y="15627"/>
                </a:cubicBezTo>
              </a:path>
              <a:path w="2233" h="944">
                <a:moveTo>
                  <a:pt x="21307" y="14908"/>
                </a:moveTo>
                <a:cubicBezTo>
                  <a:pt x="21269" y="14908"/>
                  <a:pt x="21219" y="14909"/>
                  <a:pt x="21208" y="14932"/>
                </a:cubicBezTo>
                <a:cubicBezTo>
                  <a:pt x="21166" y="15016"/>
                  <a:pt x="21165" y="15137"/>
                  <a:pt x="21158" y="15230"/>
                </a:cubicBezTo>
                <a:cubicBezTo>
                  <a:pt x="21192" y="15221"/>
                  <a:pt x="21241" y="15154"/>
                  <a:pt x="21282" y="15180"/>
                </a:cubicBezTo>
                <a:cubicBezTo>
                  <a:pt x="21451" y="15288"/>
                  <a:pt x="21362" y="15461"/>
                  <a:pt x="21208" y="15528"/>
                </a:cubicBezTo>
                <a:cubicBezTo>
                  <a:pt x="21132" y="15528"/>
                  <a:pt x="21107" y="15526"/>
                  <a:pt x="21109" y="15453"/>
                </a:cubicBezTo>
              </a:path>
              <a:path w="2233" h="944">
                <a:moveTo>
                  <a:pt x="21803" y="14734"/>
                </a:moveTo>
                <a:cubicBezTo>
                  <a:pt x="21753" y="14821"/>
                  <a:pt x="21660" y="14938"/>
                  <a:pt x="21729" y="15007"/>
                </a:cubicBezTo>
                <a:cubicBezTo>
                  <a:pt x="21815" y="14934"/>
                  <a:pt x="21808" y="14749"/>
                  <a:pt x="21828" y="14734"/>
                </a:cubicBezTo>
                <a:cubicBezTo>
                  <a:pt x="21853" y="14726"/>
                  <a:pt x="21878" y="14717"/>
                  <a:pt x="21903" y="14709"/>
                </a:cubicBezTo>
                <a:cubicBezTo>
                  <a:pt x="22127" y="14854"/>
                  <a:pt x="22045" y="15076"/>
                  <a:pt x="21952" y="15329"/>
                </a:cubicBezTo>
                <a:cubicBezTo>
                  <a:pt x="21897" y="15439"/>
                  <a:pt x="21904" y="15458"/>
                  <a:pt x="21853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6160" y="5705640"/>
            <a:ext cx="160560" cy="179280"/>
          </a:xfrm>
          <a:custGeom>
            <a:avLst/>
            <a:gdLst/>
            <a:ahLst/>
            <a:rect l="l" t="t" r="r" b="b"/>
            <a:pathLst>
              <a:path w="448" h="497">
                <a:moveTo>
                  <a:pt x="18852" y="15875"/>
                </a:moveTo>
                <a:cubicBezTo>
                  <a:pt x="18837" y="15860"/>
                  <a:pt x="18738" y="15875"/>
                  <a:pt x="18678" y="15875"/>
                </a:cubicBezTo>
                <a:cubicBezTo>
                  <a:pt x="18620" y="15875"/>
                  <a:pt x="18562" y="15875"/>
                  <a:pt x="18504" y="15875"/>
                </a:cubicBezTo>
                <a:cubicBezTo>
                  <a:pt x="18504" y="15954"/>
                  <a:pt x="18516" y="16022"/>
                  <a:pt x="18529" y="16098"/>
                </a:cubicBezTo>
                <a:cubicBezTo>
                  <a:pt x="18529" y="16106"/>
                  <a:pt x="18529" y="16115"/>
                  <a:pt x="18529" y="16123"/>
                </a:cubicBezTo>
                <a:cubicBezTo>
                  <a:pt x="18574" y="16112"/>
                  <a:pt x="18599" y="16098"/>
                  <a:pt x="18653" y="16098"/>
                </a:cubicBezTo>
                <a:cubicBezTo>
                  <a:pt x="18660" y="16098"/>
                  <a:pt x="18775" y="16120"/>
                  <a:pt x="18777" y="16123"/>
                </a:cubicBezTo>
                <a:cubicBezTo>
                  <a:pt x="18825" y="16202"/>
                  <a:pt x="18787" y="16284"/>
                  <a:pt x="18703" y="16321"/>
                </a:cubicBezTo>
                <a:cubicBezTo>
                  <a:pt x="18653" y="16343"/>
                  <a:pt x="18568" y="16318"/>
                  <a:pt x="18529" y="16297"/>
                </a:cubicBezTo>
                <a:cubicBezTo>
                  <a:pt x="18477" y="16270"/>
                  <a:pt x="18462" y="16247"/>
                  <a:pt x="18405" y="16247"/>
                </a:cubicBezTo>
                <a:cubicBezTo>
                  <a:pt x="18405" y="16365"/>
                  <a:pt x="18471" y="16342"/>
                  <a:pt x="18579" y="16346"/>
                </a:cubicBezTo>
                <a:cubicBezTo>
                  <a:pt x="18680" y="16349"/>
                  <a:pt x="18718" y="16294"/>
                  <a:pt x="18752" y="16197"/>
                </a:cubicBezTo>
                <a:cubicBezTo>
                  <a:pt x="18752" y="16189"/>
                  <a:pt x="18752" y="16181"/>
                  <a:pt x="18752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90760" y="5429160"/>
            <a:ext cx="1920600" cy="88920"/>
          </a:xfrm>
          <a:custGeom>
            <a:avLst/>
            <a:gdLst/>
            <a:ahLst/>
            <a:rect l="l" t="t" r="r" b="b"/>
            <a:pathLst>
              <a:path w="5334" h="249">
                <a:moveTo>
                  <a:pt x="4142" y="15255"/>
                </a:moveTo>
                <a:cubicBezTo>
                  <a:pt x="4200" y="15280"/>
                  <a:pt x="4275" y="15337"/>
                  <a:pt x="4341" y="15329"/>
                </a:cubicBezTo>
                <a:cubicBezTo>
                  <a:pt x="4617" y="15296"/>
                  <a:pt x="4900" y="15176"/>
                  <a:pt x="5184" y="15156"/>
                </a:cubicBezTo>
                <a:cubicBezTo>
                  <a:pt x="5620" y="15125"/>
                  <a:pt x="6063" y="15156"/>
                  <a:pt x="6499" y="15131"/>
                </a:cubicBezTo>
                <a:cubicBezTo>
                  <a:pt x="6790" y="15114"/>
                  <a:pt x="7075" y="15106"/>
                  <a:pt x="7367" y="15106"/>
                </a:cubicBezTo>
                <a:cubicBezTo>
                  <a:pt x="7593" y="15106"/>
                  <a:pt x="7813" y="15127"/>
                  <a:pt x="8037" y="15131"/>
                </a:cubicBezTo>
                <a:cubicBezTo>
                  <a:pt x="8411" y="15138"/>
                  <a:pt x="8782" y="15125"/>
                  <a:pt x="9153" y="15106"/>
                </a:cubicBezTo>
                <a:cubicBezTo>
                  <a:pt x="9210" y="15103"/>
                  <a:pt x="9433" y="15068"/>
                  <a:pt x="9475" y="15081"/>
                </a:cubicBezTo>
                <a:cubicBezTo>
                  <a:pt x="9475" y="15109"/>
                  <a:pt x="9473" y="15120"/>
                  <a:pt x="9451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54360" y="5081760"/>
            <a:ext cx="3759480" cy="1044360"/>
          </a:xfrm>
          <a:custGeom>
            <a:avLst/>
            <a:gdLst/>
            <a:ahLst/>
            <a:rect l="l" t="t" r="r" b="b"/>
            <a:pathLst>
              <a:path w="10444" h="2903">
                <a:moveTo>
                  <a:pt x="22969" y="15577"/>
                </a:moveTo>
                <a:cubicBezTo>
                  <a:pt x="22940" y="15268"/>
                  <a:pt x="22892" y="14944"/>
                  <a:pt x="22895" y="14635"/>
                </a:cubicBezTo>
                <a:cubicBezTo>
                  <a:pt x="22896" y="14458"/>
                  <a:pt x="22904" y="14288"/>
                  <a:pt x="22895" y="14114"/>
                </a:cubicBezTo>
                <a:cubicBezTo>
                  <a:pt x="22721" y="14126"/>
                  <a:pt x="22547" y="14124"/>
                  <a:pt x="22374" y="14139"/>
                </a:cubicBezTo>
                <a:cubicBezTo>
                  <a:pt x="22022" y="14168"/>
                  <a:pt x="21655" y="14183"/>
                  <a:pt x="21307" y="14238"/>
                </a:cubicBezTo>
                <a:cubicBezTo>
                  <a:pt x="20950" y="14294"/>
                  <a:pt x="20625" y="14459"/>
                  <a:pt x="20265" y="14511"/>
                </a:cubicBezTo>
                <a:cubicBezTo>
                  <a:pt x="20069" y="14539"/>
                  <a:pt x="19869" y="14562"/>
                  <a:pt x="19670" y="14560"/>
                </a:cubicBezTo>
                <a:cubicBezTo>
                  <a:pt x="19462" y="14558"/>
                  <a:pt x="19232" y="14560"/>
                  <a:pt x="19025" y="14536"/>
                </a:cubicBezTo>
                <a:cubicBezTo>
                  <a:pt x="18921" y="14524"/>
                  <a:pt x="18830" y="14491"/>
                  <a:pt x="18728" y="14486"/>
                </a:cubicBezTo>
                <a:cubicBezTo>
                  <a:pt x="18124" y="14457"/>
                  <a:pt x="17578" y="14550"/>
                  <a:pt x="16991" y="14635"/>
                </a:cubicBezTo>
                <a:cubicBezTo>
                  <a:pt x="16697" y="14678"/>
                  <a:pt x="16394" y="14662"/>
                  <a:pt x="16098" y="14684"/>
                </a:cubicBezTo>
                <a:cubicBezTo>
                  <a:pt x="15890" y="14699"/>
                  <a:pt x="15685" y="14709"/>
                  <a:pt x="15478" y="14734"/>
                </a:cubicBezTo>
                <a:cubicBezTo>
                  <a:pt x="14893" y="14805"/>
                  <a:pt x="14305" y="14928"/>
                  <a:pt x="13717" y="14957"/>
                </a:cubicBezTo>
                <a:cubicBezTo>
                  <a:pt x="13530" y="14966"/>
                  <a:pt x="13357" y="14987"/>
                  <a:pt x="13171" y="15007"/>
                </a:cubicBezTo>
                <a:cubicBezTo>
                  <a:pt x="12995" y="15026"/>
                  <a:pt x="12825" y="15051"/>
                  <a:pt x="12650" y="15081"/>
                </a:cubicBezTo>
                <a:cubicBezTo>
                  <a:pt x="12657" y="15138"/>
                  <a:pt x="12701" y="15114"/>
                  <a:pt x="12700" y="15230"/>
                </a:cubicBezTo>
                <a:cubicBezTo>
                  <a:pt x="12697" y="15458"/>
                  <a:pt x="12686" y="15671"/>
                  <a:pt x="12700" y="15900"/>
                </a:cubicBezTo>
                <a:cubicBezTo>
                  <a:pt x="12712" y="16092"/>
                  <a:pt x="12723" y="16279"/>
                  <a:pt x="12750" y="16470"/>
                </a:cubicBezTo>
                <a:cubicBezTo>
                  <a:pt x="12773" y="16635"/>
                  <a:pt x="12844" y="16865"/>
                  <a:pt x="12874" y="16991"/>
                </a:cubicBezTo>
                <a:cubicBezTo>
                  <a:pt x="12874" y="16999"/>
                  <a:pt x="12874" y="17008"/>
                  <a:pt x="12874" y="17016"/>
                </a:cubicBezTo>
                <a:cubicBezTo>
                  <a:pt x="12976" y="17007"/>
                  <a:pt x="13069" y="17000"/>
                  <a:pt x="13171" y="16991"/>
                </a:cubicBezTo>
                <a:cubicBezTo>
                  <a:pt x="13367" y="16973"/>
                  <a:pt x="13569" y="16957"/>
                  <a:pt x="13767" y="16966"/>
                </a:cubicBezTo>
                <a:cubicBezTo>
                  <a:pt x="13960" y="16974"/>
                  <a:pt x="14068" y="16975"/>
                  <a:pt x="14263" y="16942"/>
                </a:cubicBezTo>
                <a:cubicBezTo>
                  <a:pt x="14672" y="16872"/>
                  <a:pt x="15064" y="16778"/>
                  <a:pt x="15478" y="16743"/>
                </a:cubicBezTo>
                <a:cubicBezTo>
                  <a:pt x="15717" y="16723"/>
                  <a:pt x="15956" y="16720"/>
                  <a:pt x="16197" y="16718"/>
                </a:cubicBezTo>
                <a:cubicBezTo>
                  <a:pt x="16398" y="16716"/>
                  <a:pt x="16591" y="16690"/>
                  <a:pt x="16793" y="16694"/>
                </a:cubicBezTo>
                <a:cubicBezTo>
                  <a:pt x="16995" y="16698"/>
                  <a:pt x="17187" y="16698"/>
                  <a:pt x="17388" y="16694"/>
                </a:cubicBezTo>
                <a:cubicBezTo>
                  <a:pt x="17581" y="16690"/>
                  <a:pt x="17767" y="16682"/>
                  <a:pt x="17959" y="16669"/>
                </a:cubicBezTo>
                <a:cubicBezTo>
                  <a:pt x="18187" y="16653"/>
                  <a:pt x="18426" y="16646"/>
                  <a:pt x="18653" y="16619"/>
                </a:cubicBezTo>
                <a:cubicBezTo>
                  <a:pt x="19185" y="16555"/>
                  <a:pt x="19712" y="16449"/>
                  <a:pt x="20241" y="16371"/>
                </a:cubicBezTo>
                <a:cubicBezTo>
                  <a:pt x="20663" y="16309"/>
                  <a:pt x="21066" y="16235"/>
                  <a:pt x="21481" y="16148"/>
                </a:cubicBezTo>
                <a:cubicBezTo>
                  <a:pt x="21639" y="16115"/>
                  <a:pt x="21843" y="16034"/>
                  <a:pt x="22002" y="16024"/>
                </a:cubicBezTo>
                <a:cubicBezTo>
                  <a:pt x="22160" y="16014"/>
                  <a:pt x="22278" y="16078"/>
                  <a:pt x="22423" y="16098"/>
                </a:cubicBezTo>
                <a:cubicBezTo>
                  <a:pt x="22502" y="16109"/>
                  <a:pt x="22600" y="16131"/>
                  <a:pt x="22696" y="16123"/>
                </a:cubicBezTo>
                <a:cubicBezTo>
                  <a:pt x="22795" y="16115"/>
                  <a:pt x="22899" y="16070"/>
                  <a:pt x="22994" y="16049"/>
                </a:cubicBezTo>
                <a:cubicBezTo>
                  <a:pt x="23020" y="16043"/>
                  <a:pt x="23059" y="16031"/>
                  <a:pt x="23093" y="16024"/>
                </a:cubicBezTo>
                <a:cubicBezTo>
                  <a:pt x="23081" y="15964"/>
                  <a:pt x="23055" y="15989"/>
                  <a:pt x="23044" y="15925"/>
                </a:cubicBezTo>
                <a:cubicBezTo>
                  <a:pt x="23017" y="15768"/>
                  <a:pt x="22980" y="15577"/>
                  <a:pt x="22944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order fractions, decimals, and per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those Valu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fraction cubes, 2 decimal cub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number cubes, 2 percent c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Roll all 8 cubes.  Add one number cube to a fraction to make a mixed number, and one number cube to a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hange all fractions and percents into decimals on scrap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Put your cubes in order from least to greatest on your de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Copy the numbers on your cubes onto paper in order from least to grea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Repeat steps 1-4 alternating least to greatest and then greatest to le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order fractions, decimals, and percent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bottom of your paper order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t to grea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.4% ; .84  ;      ;  3.804 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8680" y="159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3276720"/>
                <a:ext cx="5205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629400" y="3276720"/>
                <a:ext cx="299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533520" y="457200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W pg. 52   18 -20   and pg. 54   20-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vert all fractions to decimals before ordering - be sure to show work on the page or separate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52   18 -20   and pg. 54   20-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vert all fractions to decimals before ordering - be sure to show work on the page or separate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1:55:52Z</dcterms:created>
  <dc:creator>Brian McGrath</dc:creator>
  <dc:description/>
  <dc:language>en-US</dc:language>
  <cp:lastModifiedBy>deanne e mcgrath</cp:lastModifiedBy>
  <dcterms:modified xsi:type="dcterms:W3CDTF">2011-10-13T15:32:45Z</dcterms:modified>
  <cp:revision>4</cp:revision>
  <dc:subject/>
  <dc:title>Course 2 Warm-up</dc:title>
</cp:coreProperties>
</file>